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97520" cy="9872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371">
                <a:moveTo>
                  <a:pt x="5" y="0"/>
                </a:moveTo>
                <a:arcTo wR="5" hR="5" stAng="16200000" swAng="-5400000"/>
                <a:lnTo>
                  <a:pt x="0" y="31366"/>
                </a:lnTo>
                <a:arcTo wR="5" hR="5" stAng="10800000" swAng="-5400000"/>
                <a:lnTo>
                  <a:pt x="21595" y="3137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797520" cy="9872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371">
                <a:moveTo>
                  <a:pt x="5" y="0"/>
                </a:moveTo>
                <a:arcTo wR="5" hR="5" stAng="16200000" swAng="-5400000"/>
                <a:lnTo>
                  <a:pt x="0" y="31366"/>
                </a:lnTo>
                <a:arcTo wR="5" hR="5" stAng="10800000" swAng="-5400000"/>
                <a:lnTo>
                  <a:pt x="21595" y="3137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4838480" y="-12736440"/>
            <a:ext cx="17978400" cy="134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4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-14836680" y="-12736440"/>
            <a:ext cx="17976600" cy="13484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4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-14836680" y="-12736440"/>
            <a:ext cx="17976600" cy="13484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4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Header Placeholder 5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7DA6-8BEA-4943-8DF8-1B4313CD8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973C-08EA-4F62-83F0-C3B0376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36EA-5132-4E0D-A9AB-7897C74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2AD4-B638-4938-9132-48F1576145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B5E1-3E55-45DC-8474-AD5EACB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70B4-B234-4E95-BBB0-52310D7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C85D-3ACC-4D83-BAFB-7B8002CA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1245-500F-4E0E-9664-30DED555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F1F1-D8D5-4520-AF8A-8E433B39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5C7F-5E59-476A-BDBC-2AA18A60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F8CF-3543-42F2-BFE0-71A66241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DDD2-011F-41EC-BA88-D5577E34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B34CC-E36D-40F6-94AA-BFA766FB8E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rcRect l="12564" t="0" r="12779" b="3597"/>
          <a:stretch/>
        </p:blipFill>
        <p:spPr>
          <a:xfrm>
            <a:off x="219240" y="150840"/>
            <a:ext cx="62676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ortal.ujn.gov.rs/" TargetMode="External"/><Relationship Id="rId2" Type="http://schemas.openxmlformats.org/officeDocument/2006/relationships/hyperlink" Target="http://portal.ujn.gov.rs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ortal.ujn.gov.rs/" TargetMode="External"/><Relationship Id="rId2" Type="http://schemas.openxmlformats.org/officeDocument/2006/relationships/hyperlink" Target="http://portal.ujn.gov.rs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ortal.ujn.gov.rs/" TargetMode="External"/><Relationship Id="rId2" Type="http://schemas.openxmlformats.org/officeDocument/2006/relationships/hyperlink" Target="http://www.ujn.gov.rs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42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REPUBLIC OF SERBIA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Negotiating Group for the Chapter 5-Public Proc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560" y="3700440"/>
            <a:ext cx="71535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Bilateral screening: Chapter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RESENTATION OF THE REPUBLIC OF SER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843280" y="590076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22a35"/>
                </a:solidFill>
                <a:latin typeface="Cambr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Brussels, 13 May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77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sr-Latn-RS" sz="3600" spc="-1" strike="noStrike">
                <a:solidFill>
                  <a:srgbClr val="002060"/>
                </a:solidFill>
                <a:latin typeface="Calibri"/>
              </a:rPr>
              <a:t>- Electronic auction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2133360"/>
            <a:ext cx="821844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2060"/>
                </a:solidFill>
                <a:latin typeface="Calibri"/>
              </a:rPr>
              <a:t>Article 4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CA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having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otal valu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of public procurements that fulfill requirements from this Law for application of electronic auction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ceeding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 amount of 6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.20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millions EUR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t the annual level is obliged to establish IT system and electronic a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2700360" y="907920"/>
            <a:ext cx="4392720" cy="576360"/>
          </a:xfrm>
          <a:prstGeom prst="rect">
            <a:avLst/>
          </a:prstGeom>
          <a:solidFill>
            <a:srgbClr val="c00000">
              <a:alpha val="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24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sr-Latn-RS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dministration for Joint Services</a:t>
            </a:r>
            <a:r>
              <a:rPr b="1" lang="sr-Latn-RS" sz="3600" spc="-1" strike="noStrike">
                <a:solidFill>
                  <a:srgbClr val="002060"/>
                </a:solidFill>
                <a:latin typeface="Calibri"/>
              </a:rPr>
              <a:t>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91592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2060"/>
                </a:solidFill>
                <a:latin typeface="Calibri"/>
              </a:rPr>
              <a:t>Article 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dministration for Joint Services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(Centralised procurement body for the needs government bodies and organisations) 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bliged to set up IT system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nd apply dynamic p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urchasing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system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(DPS)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as well as electronic auction, when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There is no legally defined deadlines  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for use of neither e-auction nor D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1187280" y="836640"/>
            <a:ext cx="6769440" cy="647640"/>
          </a:xfrm>
          <a:prstGeom prst="rect">
            <a:avLst/>
          </a:prstGeom>
          <a:solidFill>
            <a:srgbClr val="c00000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128520"/>
            <a:ext cx="7710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INSTITUTIONAL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99640" y="2060640"/>
            <a:ext cx="77821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2060"/>
                </a:solidFill>
                <a:latin typeface="Calibri"/>
              </a:rPr>
              <a:t>Public Procurement Off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2060"/>
                </a:solidFill>
                <a:latin typeface="Calibri"/>
              </a:rPr>
              <a:t>Administration for Joint Services of Republican Bo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2060"/>
                </a:solidFill>
                <a:latin typeface="Calibri"/>
              </a:rPr>
              <a:t>Ministry of  Trade, Tourism and Telecommun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1"/>
          <p:cNvSpPr/>
          <p:nvPr/>
        </p:nvSpPr>
        <p:spPr>
          <a:xfrm>
            <a:off x="684360" y="1844640"/>
            <a:ext cx="6912000" cy="3240000"/>
          </a:xfrm>
          <a:prstGeom prst="roundRect">
            <a:avLst>
              <a:gd name="adj" fmla="val 16667"/>
            </a:avLst>
          </a:prstGeom>
          <a:solidFill>
            <a:srgbClr val="ffc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128520"/>
            <a:ext cx="771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ITUATION IN PRACT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99920"/>
            <a:ext cx="8362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P 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PORTAL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CCORDING TO THE LAW FROM 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esting-phase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tarted during the year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ully operational since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January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2009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ill April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P 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PORTAL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CCORDING TO THE LAW FROM 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 2012 –  –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NEW POR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Operational since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pril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 2013,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when started the application of the new PP 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539640" y="1700280"/>
            <a:ext cx="8280360" cy="1657440"/>
          </a:xfrm>
          <a:prstGeom prst="rect">
            <a:avLst/>
          </a:prstGeom>
          <a:solidFill>
            <a:srgbClr val="00b8ff">
              <a:alpha val="1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3716280"/>
            <a:ext cx="8280360" cy="2016360"/>
          </a:xfrm>
          <a:prstGeom prst="rect">
            <a:avLst/>
          </a:prstGeom>
          <a:solidFill>
            <a:srgbClr val="cb05a1">
              <a:alpha val="16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ITUATION IN PRACTIC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26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NEW PP PORTAL – KEY NOVELTI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425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andatory publishing of small-value proc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425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andatory publishing of tender documents in all PP proced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425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ing information/notice on launching the negotiated procedure without  invitation to b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425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ing of prior opinion of PPO on legal ground for use of negotiated proced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425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ing of information on changes and execution of PP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4251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ing of information on filed request for protection of bidders’ righ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468360" y="1413000"/>
            <a:ext cx="5256000" cy="503280"/>
          </a:xfrm>
          <a:prstGeom prst="rect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ITUATION IN PRACTIC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4360" y="1125360"/>
            <a:ext cx="79200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NEW PP PORTAL - SEARCHING AND DOWNLOADING OF DOCUMENT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2060"/>
                </a:solidFill>
                <a:latin typeface="Calibri"/>
              </a:rPr>
              <a:t>Search and download of tender documents and other content published on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P</a:t>
            </a:r>
            <a:r>
              <a:rPr b="0" lang="sr-Latn-RS" sz="2600" spc="-1" strike="noStrike">
                <a:solidFill>
                  <a:srgbClr val="002060"/>
                </a:solidFill>
                <a:latin typeface="Calibri"/>
              </a:rPr>
              <a:t>ortal are </a:t>
            </a: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free of charge for all the subjects/u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2060"/>
                </a:solidFill>
                <a:latin typeface="Calibri"/>
              </a:rPr>
              <a:t>Bidders and other subjects/users when download tender documents </a:t>
            </a:r>
            <a:r>
              <a:rPr b="1" lang="sr-Latn-RS" sz="2600" spc="-1" strike="noStrike">
                <a:solidFill>
                  <a:srgbClr val="002060"/>
                </a:solidFill>
                <a:latin typeface="Calibri"/>
              </a:rPr>
              <a:t>leave their information (name, contact...) and define the purspose of downloading </a:t>
            </a:r>
            <a:r>
              <a:rPr b="0" lang="sr-Latn-RS" sz="2600" spc="-1" strike="noStrike">
                <a:solidFill>
                  <a:srgbClr val="002060"/>
                </a:solidFill>
                <a:latin typeface="Calibri"/>
              </a:rPr>
              <a:t>(submission of bids or getting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684360" y="1628640"/>
            <a:ext cx="7775280" cy="863640"/>
          </a:xfrm>
          <a:prstGeom prst="rect">
            <a:avLst/>
          </a:prstGeom>
          <a:solidFill>
            <a:srgbClr val="00b050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ITUATION IN PRACTIC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1412640"/>
            <a:ext cx="79930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USER MANUAL  FOR USE OF THE PORTAL – 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available on the web-site of P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EXPERT ASSISTANCE – 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PPO gives telephone consultations to users of Portal every working day 10,00-12,00, and via 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ounded Rectangle 1"/>
          <p:cNvSpPr/>
          <p:nvPr/>
        </p:nvSpPr>
        <p:spPr>
          <a:xfrm>
            <a:off x="611280" y="1916280"/>
            <a:ext cx="7632720" cy="504720"/>
          </a:xfrm>
          <a:prstGeom prst="roundRect">
            <a:avLst>
              <a:gd name="adj" fmla="val 16667"/>
            </a:avLst>
          </a:prstGeom>
          <a:solidFill>
            <a:srgbClr val="ffff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611280" y="3429000"/>
            <a:ext cx="3816360" cy="431640"/>
          </a:xfrm>
          <a:prstGeom prst="roundRect">
            <a:avLst>
              <a:gd name="adj" fmla="val 16667"/>
            </a:avLst>
          </a:prstGeom>
          <a:solidFill>
            <a:srgbClr val="7030a0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TUATION IN PRACTICE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- New Public Procurement Portal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000" y="1773360"/>
            <a:ext cx="828036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ATEST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KEY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ATA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*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Registered users at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A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7.404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umber is more than doubled in comparison with the ‘’old’’ Portal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ed public procurement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44.494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vitations to submit bids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ender document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46.434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hange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15.772;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Q and A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26.08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formation on concluded framework contract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formation on filed request f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protection of bidder’s right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2.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Calibri"/>
              </a:rPr>
              <a:t>*</a:t>
            </a:r>
            <a:r>
              <a:rPr b="0" lang="sr-Latn-RS" sz="2000" spc="-1" strike="noStrike">
                <a:solidFill>
                  <a:srgbClr val="002060"/>
                </a:solidFill>
                <a:latin typeface="Calibri"/>
              </a:rPr>
              <a:t>Source: Public Procurement Portal: </a:t>
            </a:r>
            <a:r>
              <a:rPr b="0" lang="sr-Latn-R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portal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.ujn.gov.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95280" y="1773360"/>
            <a:ext cx="3313080" cy="431640"/>
          </a:xfrm>
          <a:prstGeom prst="rect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TUATION IN PRACTICE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- New Public Procurement Portal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599840"/>
            <a:ext cx="8353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LATEST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KEY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ATA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*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ed opinions of PPO for negotiated procedur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2.5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ecisions of Republic Commission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76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ed large-value contract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from quarterly reports of CA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232.553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‘’old’’ and ‘’new’’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Portal;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ew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Portal: 38.43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verage number of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ed public procurement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aily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119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crease of almost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200%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in comparison with ‘’old’’ Por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verage number of daily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visit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4.834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lmost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600%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crease in comparison with ‘’old’’ Portal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sr-Latn-RS" sz="2000" spc="-1" strike="noStrike">
                <a:solidFill>
                  <a:srgbClr val="002060"/>
                </a:solidFill>
                <a:latin typeface="Calibri"/>
              </a:rPr>
              <a:t>*</a:t>
            </a:r>
            <a:r>
              <a:rPr b="0" lang="sr-Latn-RS" sz="2000" spc="-1" strike="noStrike">
                <a:solidFill>
                  <a:srgbClr val="002060"/>
                </a:solidFill>
                <a:latin typeface="Calibri"/>
              </a:rPr>
              <a:t>Source: Public Procurement Portal: </a:t>
            </a:r>
            <a:r>
              <a:rPr b="0" lang="sr-Latn-R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portal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.ujn.gov.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9640" y="1557360"/>
            <a:ext cx="3168720" cy="503280"/>
          </a:xfrm>
          <a:prstGeom prst="rect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UBLIC PROCUREMENT PORTAL :</a:t>
            </a:r>
            <a:br>
              <a:rPr sz="4000"/>
            </a:br>
            <a:r>
              <a:rPr b="0" lang="en-US" sz="4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portal.ujn.gov.rs</a:t>
            </a:r>
            <a:br>
              <a:rPr sz="4000"/>
            </a:br>
            <a:r>
              <a:rPr b="0" lang="en-US" sz="4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ujn.gov.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76360" y="404640"/>
            <a:ext cx="61912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E-PROC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835280" y="3789360"/>
            <a:ext cx="504036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2060"/>
                </a:solidFill>
                <a:latin typeface="Calibri"/>
              </a:rPr>
              <a:t>Danijela Bo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2060"/>
                </a:solidFill>
                <a:latin typeface="Calibri"/>
              </a:rPr>
              <a:t>Assistent 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2060"/>
                </a:solidFill>
                <a:latin typeface="Calibri"/>
              </a:rPr>
              <a:t>Public Procurement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2060"/>
                </a:solidFill>
                <a:latin typeface="Calibri"/>
              </a:rPr>
              <a:t>dbokan</a:t>
            </a:r>
            <a:r>
              <a:rPr b="0" i="1" lang="en-US" sz="2400" spc="-1" strike="noStrike">
                <a:solidFill>
                  <a:srgbClr val="002060"/>
                </a:solidFill>
                <a:latin typeface="Calibri"/>
              </a:rPr>
              <a:t>@ujn.gov.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TUATION IN PRACTICE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- New Public Procurement Portal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599840"/>
            <a:ext cx="85694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ocuments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 content that are published on PP Portal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ll legally defined notices on public procurement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ender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ecisions related to changes of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pinions of PPO on legal grounds for use of negotiated procedure without prior notice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egative 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ecisions of Republican Commission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formation on filed request for protection of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As quarterly reports on concluded contracts and conducted procedures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1"/>
          <p:cNvSpPr/>
          <p:nvPr/>
        </p:nvSpPr>
        <p:spPr>
          <a:xfrm>
            <a:off x="468360" y="1628640"/>
            <a:ext cx="7632720" cy="432000"/>
          </a:xfrm>
          <a:prstGeom prst="roundRect">
            <a:avLst>
              <a:gd name="adj" fmla="val 16667"/>
            </a:avLst>
          </a:prstGeom>
          <a:solidFill>
            <a:srgbClr val="cb05a1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-2340000" y="-819000"/>
            <a:ext cx="13897080" cy="79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8224920" cy="452124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6D2E7-B63E-47C0-8BB5-B4752D6228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-2124000" y="-1251000"/>
            <a:ext cx="13897080" cy="112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-468360" y="-819000"/>
            <a:ext cx="10225080" cy="79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181080" y="-819000"/>
            <a:ext cx="9721800" cy="80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8224920" cy="452124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3A799-F492-47C5-861B-9F28F6098C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2629080" y="-1251000"/>
            <a:ext cx="14546520" cy="1169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28520"/>
            <a:ext cx="7345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URTHER DIRECTIONS OF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06064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RANSPARENCY STRENGTHENING THROUGH DEVELOPMENT OF THE PORTAL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ublishing of CAs procurement plan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hanges of plans and reports on execution of plan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shing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 procurement  conducted according to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pecific procedures of international organizations and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English version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s in the process of cre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539640" y="1989000"/>
            <a:ext cx="6193080" cy="935280"/>
          </a:xfrm>
          <a:prstGeom prst="rect">
            <a:avLst/>
          </a:prstGeom>
          <a:solidFill>
            <a:srgbClr val="00b0f0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86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URTHER DIRECTIONS OF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10920" y="1915920"/>
            <a:ext cx="784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RANSPARENCY STRENGTHENING THROUGH DEVELOPMENT OF THE PORTAL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mprovement of searching mod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unique registration system for bidders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 automatic notification on published tenders for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oncrete codes from CP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mprovement of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call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-center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use of Portal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trengthening of administrative capacities  of PPO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mproved training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for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user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trengthening of administrative capacitie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611280" y="1844640"/>
            <a:ext cx="6264360" cy="863640"/>
          </a:xfrm>
          <a:prstGeom prst="rect">
            <a:avLst/>
          </a:prstGeom>
          <a:solidFill>
            <a:srgbClr val="00b8ff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28520"/>
            <a:ext cx="76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URTHER DIRECTIONS OF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844640"/>
            <a:ext cx="82249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E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UBMISSION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further system development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hrough following phases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alysis of necessary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hanges of legislative framework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related to use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 electronic proc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alysis of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chnical solutions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 options applied or being developed 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in EU Member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election of the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optimal model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uitable for use 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he Republic of Serb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paration of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chnical solutions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 line with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hosen optimal model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468360" y="1773360"/>
            <a:ext cx="7416720" cy="863640"/>
          </a:xfrm>
          <a:prstGeom prst="rect">
            <a:avLst/>
          </a:prstGeom>
          <a:solidFill>
            <a:srgbClr val="92d050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92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FURTHER DIRECTIONS OF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773360"/>
            <a:ext cx="82249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Pilot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raining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isted activities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ill also encompass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reparation for introduction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 other elements of e-procurement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envisaged by new EU Directives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uch as</a:t>
            </a:r>
            <a:r>
              <a:rPr b="0" lang="sr-Latn-C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e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uctions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, e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ynamic purchasing system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</a:t>
            </a:r>
            <a:r>
              <a:rPr b="1" lang="sr-Latn-CS" sz="2400" spc="-1" strike="noStrike">
                <a:solidFill>
                  <a:srgbClr val="002060"/>
                </a:solidFill>
                <a:latin typeface="Calibri"/>
              </a:rPr>
              <a:t> e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catalog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adual and constant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harmonization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with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new PP Dir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Technical as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468360" y="5229360"/>
            <a:ext cx="8207280" cy="936360"/>
          </a:xfrm>
          <a:prstGeom prst="rect">
            <a:avLst/>
          </a:prstGeom>
          <a:solidFill>
            <a:srgbClr val="c00000">
              <a:alpha val="1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LEGISLATIVE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73360"/>
            <a:ext cx="80755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ublic Procurement Law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Official Gazette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No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. 124/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aw on electronic signatur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ficial Gazett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o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. 135/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Law on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electronic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ocument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ficial Gazett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o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. 51/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aw on personal data protection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ficial Gazett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o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. 97/2008, 104/2009 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ther law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, 68/2012 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C decision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i 107/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aw on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e-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ommerc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ficial Gazett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o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. 41/2009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95/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formation Society Development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Strateg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y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n RoS</a:t>
            </a:r>
            <a:r>
              <a:rPr b="0" lang="sr-Latn-R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ill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2020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Official Gazett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o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. 51/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611280" y="1628640"/>
            <a:ext cx="8064360" cy="4464360"/>
          </a:xfrm>
          <a:prstGeom prst="roundRect">
            <a:avLst>
              <a:gd name="adj" fmla="val 16667"/>
            </a:avLst>
          </a:prstGeom>
          <a:solidFill>
            <a:srgbClr val="ffff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632720" cy="28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REPUBLIC OF SERBIA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Negotiating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Group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for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Verdana"/>
              </a:rPr>
              <a:t>Chapter 5 –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  <a:ea typeface="Verdana"/>
              </a:rPr>
              <a:t>Public Procurement</a:t>
            </a:r>
            <a:br>
              <a:rPr sz="24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ANK YOU FOR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YOUR ATTENTION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8552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- Public Procurement Portal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988640"/>
            <a:ext cx="822492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UBLISHING OF NO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Article</a:t>
            </a:r>
            <a:r>
              <a:rPr b="1" i="1" lang="sr-Latn-RS" sz="2400" spc="-1" strike="noStrike">
                <a:solidFill>
                  <a:srgbClr val="002060"/>
                </a:solidFill>
                <a:latin typeface="Calibri"/>
              </a:rPr>
              <a:t> 5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ublic procurement notice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re published on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ublic Procurement P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ortal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 on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website of CA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free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f the estimated value is higher than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44.250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ousands EUR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for goods and service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s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8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8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.500 thousands EUR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for work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otices are also published on the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Official Gazette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 regulation databases Portal of the RoS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mount of the fee is regulated by the Gover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468360" y="1989000"/>
            <a:ext cx="3382920" cy="432000"/>
          </a:xfrm>
          <a:prstGeom prst="rect">
            <a:avLst/>
          </a:prstGeom>
          <a:solidFill>
            <a:srgbClr val="c00000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24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- Public Procurement Portal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988640"/>
            <a:ext cx="822492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ENDER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RS" sz="2400" spc="-1" strike="noStrike">
                <a:solidFill>
                  <a:srgbClr val="002060"/>
                </a:solidFill>
                <a:latin typeface="Calibri"/>
              </a:rPr>
              <a:t>Article 6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Simultaneously with publishing the invitation to bid,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CA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as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o post tender documents on the Public Procurement Portal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s well as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on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ts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web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site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r-Latn-RS" sz="2400" spc="-1" strike="noStrike">
                <a:solidFill>
                  <a:srgbClr val="002060"/>
                </a:solidFill>
                <a:latin typeface="Calibri"/>
              </a:rPr>
              <a:t>Article 6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Changes and amendments 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of tender documents, as well as </a:t>
            </a:r>
            <a:r>
              <a:rPr b="1" lang="sr-Latn-RS" sz="2400" spc="-1" strike="noStrike">
                <a:solidFill>
                  <a:srgbClr val="002060"/>
                </a:solidFill>
                <a:latin typeface="Calibri"/>
              </a:rPr>
              <a:t>answers to the questions of bidders</a:t>
            </a:r>
            <a:r>
              <a:rPr b="0" lang="sr-Latn-RS" sz="2400" spc="-1" strike="noStrike">
                <a:solidFill>
                  <a:srgbClr val="002060"/>
                </a:solidFill>
                <a:latin typeface="Calibri"/>
              </a:rPr>
              <a:t>, are published  by CA on Public Procurement Portal and on website of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468360" y="1989000"/>
            <a:ext cx="3095640" cy="503280"/>
          </a:xfrm>
          <a:prstGeom prst="rect">
            <a:avLst/>
          </a:prstGeom>
          <a:solidFill>
            <a:srgbClr val="c00000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24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- Public Procurement Portal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76640"/>
            <a:ext cx="80755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l CAs envisaged by PPL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, both from classical and utility sector (water management, energy, transport, postal services) publish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ll prescribed notice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as well as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ender documents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on the PP Portal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n all types of procurement procedures including  small value procurement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196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1"/>
          <p:cNvSpPr/>
          <p:nvPr/>
        </p:nvSpPr>
        <p:spPr>
          <a:xfrm>
            <a:off x="395280" y="2205000"/>
            <a:ext cx="8209080" cy="2879640"/>
          </a:xfrm>
          <a:prstGeom prst="roundRect">
            <a:avLst>
              <a:gd name="adj" fmla="val 16667"/>
            </a:avLst>
          </a:prstGeom>
          <a:solidFill>
            <a:srgbClr val="00b05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24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- Public Procurement Portal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699920"/>
            <a:ext cx="8507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DECISIONS OF REPUBLIC COM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Article 15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ecisions of the Republic Commission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re published on its website and  on the Public Procurement Por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UBLIC PROCUREMENT PORTAL -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Article 13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Public Procurement Office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anages the Public Procurement Portal - this is one of its ke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972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468360" y="2060640"/>
            <a:ext cx="5256000" cy="504720"/>
          </a:xfrm>
          <a:prstGeom prst="rect">
            <a:avLst/>
          </a:prstGeom>
          <a:solidFill>
            <a:srgbClr val="c00000">
              <a:alpha val="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4221000"/>
            <a:ext cx="6551640" cy="432000"/>
          </a:xfrm>
          <a:prstGeom prst="rect">
            <a:avLst/>
          </a:prstGeom>
          <a:solidFill>
            <a:srgbClr val="c00000">
              <a:alpha val="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765000"/>
            <a:ext cx="82249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3600" spc="-1" strike="noStrike">
                <a:solidFill>
                  <a:srgbClr val="002060"/>
                </a:solidFill>
                <a:latin typeface="Calibri"/>
              </a:rPr>
              <a:t>PUBLIC PROCUREMENT </a:t>
            </a:r>
            <a:br>
              <a:rPr sz="3600"/>
            </a:br>
            <a:r>
              <a:rPr b="1" lang="sr-Latn-RS" sz="3600" spc="-1" strike="noStrike">
                <a:solidFill>
                  <a:srgbClr val="002060"/>
                </a:solidFill>
                <a:latin typeface="Calibri"/>
              </a:rPr>
              <a:t>- Dinamic purchasing system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44640"/>
            <a:ext cx="82249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600" spc="-1" strike="noStrike">
                <a:solidFill>
                  <a:srgbClr val="002060"/>
                </a:solidFill>
                <a:latin typeface="Calibri"/>
              </a:rPr>
              <a:t>Article 41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Contracting authority  establish</a:t>
            </a:r>
            <a:r>
              <a:rPr b="0" lang="sr-Latn-R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es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 dynamic p</a:t>
            </a:r>
            <a:r>
              <a:rPr b="0" lang="sr-Latn-R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urchasing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 system using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only electronic means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and applying the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  <a:ea typeface="Times New Roman"/>
              </a:rPr>
              <a:t>rules for open proced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Electronic means and information system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or information technology used to establish and run a dynamic p</a:t>
            </a:r>
            <a:r>
              <a:rPr b="0" lang="sr-Latn-RS" sz="2600" spc="-1" strike="noStrike">
                <a:solidFill>
                  <a:srgbClr val="002060"/>
                </a:solidFill>
                <a:latin typeface="Calibri"/>
              </a:rPr>
              <a:t>urchsing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system, must be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widely accessible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o interested parties and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annot result in the limiting of compet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619280" y="907920"/>
            <a:ext cx="5977080" cy="576360"/>
          </a:xfrm>
          <a:prstGeom prst="rect">
            <a:avLst/>
          </a:prstGeom>
          <a:solidFill>
            <a:srgbClr val="c00000">
              <a:alpha val="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24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UBLIC PROCUREMENT LAW</a:t>
            </a:r>
            <a:br>
              <a:rPr sz="3600"/>
            </a:br>
            <a:r>
              <a:rPr b="1" lang="sr-Latn-RS" sz="3600" spc="-1" strike="noStrike">
                <a:solidFill>
                  <a:srgbClr val="002060"/>
                </a:solidFill>
                <a:latin typeface="Calibri"/>
              </a:rPr>
              <a:t>- Electronic auction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91592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2060"/>
                </a:solidFill>
                <a:latin typeface="Calibri"/>
              </a:rPr>
              <a:t>Article 4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CA applie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electronic auction 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when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a public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rocurement subject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an be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learly and objectively d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lectronic means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nd information system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and </a:t>
            </a:r>
            <a:r>
              <a:rPr b="0" lang="sr-Latn-RS" sz="2800" spc="-1" strike="noStrike">
                <a:solidFill>
                  <a:srgbClr val="002060"/>
                </a:solidFill>
                <a:latin typeface="Calibri"/>
              </a:rPr>
              <a:t>technologie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used to apply electronic auction have to be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widely accessibl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o interested parties and </a:t>
            </a:r>
            <a:r>
              <a:rPr b="1" lang="sr-Latn-RS" sz="2800" spc="-1" strike="noStrike">
                <a:solidFill>
                  <a:srgbClr val="002060"/>
                </a:solidFill>
                <a:latin typeface="Calibri"/>
              </a:rPr>
              <a:t>must not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result in restriction of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556000" y="981000"/>
            <a:ext cx="4176720" cy="503280"/>
          </a:xfrm>
          <a:prstGeom prst="rect">
            <a:avLst/>
          </a:prstGeom>
          <a:solidFill>
            <a:srgbClr val="c00000">
              <a:alpha val="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4:35:25Z</dcterms:created>
  <dc:creator>smajstorovic</dc:creator>
  <dc:description/>
  <dc:language>en-US</dc:language>
  <cp:lastModifiedBy>spanic</cp:lastModifiedBy>
  <cp:lastPrinted>2014-04-29T08:20:42Z</cp:lastPrinted>
  <dcterms:modified xsi:type="dcterms:W3CDTF">2014-04-30T12:34:02Z</dcterms:modified>
  <cp:revision>437</cp:revision>
  <dc:subject/>
  <dc:title>Slide 1</dc:title>
</cp:coreProperties>
</file>