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97520" cy="9872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371">
                <a:moveTo>
                  <a:pt x="5" y="0"/>
                </a:moveTo>
                <a:arcTo wR="5" hR="5" stAng="16200000" swAng="-5400000"/>
                <a:lnTo>
                  <a:pt x="0" y="31366"/>
                </a:lnTo>
                <a:arcTo wR="5" hR="5" stAng="10800000" swAng="-5400000"/>
                <a:lnTo>
                  <a:pt x="21595" y="3137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797520" cy="9872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371">
                <a:moveTo>
                  <a:pt x="5" y="0"/>
                </a:moveTo>
                <a:arcTo wR="5" hR="5" stAng="16200000" swAng="-5400000"/>
                <a:lnTo>
                  <a:pt x="0" y="31366"/>
                </a:lnTo>
                <a:arcTo wR="5" hR="5" stAng="10800000" swAng="-5400000"/>
                <a:lnTo>
                  <a:pt x="21595" y="3137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4838480" y="-12736440"/>
            <a:ext cx="17978400" cy="134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-14836680" y="-12736440"/>
            <a:ext cx="17976600" cy="134841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-14836680" y="-12736440"/>
            <a:ext cx="17976600" cy="134841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8960" y="4689000"/>
            <a:ext cx="5434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Header Placeholder 5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39F8-F6AD-438E-8D6B-EF00EC7F2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69CC-D819-4957-B495-34F111BB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B860-2DA2-4D8D-8AA0-5369C14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2F24-B62B-43D6-AE51-49AD0A43C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B0A3-7670-4F2B-8EA1-5FB1E437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5C14-A860-471A-902B-888B81C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8CD7-1BC7-4B38-9E5C-1603A77C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0C5A-5864-4095-B178-3F6001A7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3492-D84A-4973-8D16-389F9949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8421-C449-4961-B468-CAE5C55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1EF4-275D-474C-A914-6AA6D84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DE92-4152-476E-8078-0E299E6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C8395-C9AB-406F-9AC4-43C043C12F3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rcRect l="12564" t="0" r="12779" b="3597"/>
          <a:stretch/>
        </p:blipFill>
        <p:spPr>
          <a:xfrm>
            <a:off x="219240" y="150840"/>
            <a:ext cx="626760" cy="120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ujn.gov.rs/" TargetMode="External"/><Relationship Id="rId2" Type="http://schemas.openxmlformats.org/officeDocument/2006/relationships/hyperlink" Target="http://portal.ujn.gov.rs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22120"/>
            <a:ext cx="864072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 OF SERBI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gotiation Group for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Chapter 5 -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ublic Proc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22480" y="3700440"/>
            <a:ext cx="68580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lateral screening: Chap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ATION OF THE REPUBLIC OF SER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59007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222a35"/>
                </a:solidFill>
                <a:latin typeface="Cambria"/>
              </a:rPr>
              <a:t>     </a:t>
            </a:r>
            <a:r>
              <a:rPr b="1" lang="en-US" sz="2000" spc="-1" strike="noStrike">
                <a:solidFill>
                  <a:srgbClr val="222a35"/>
                </a:solidFill>
                <a:latin typeface="Calibri"/>
              </a:rPr>
              <a:t>Brussels,  </a:t>
            </a:r>
            <a:r>
              <a:rPr b="1" lang="sr-Latn-CS" sz="2000" spc="-1" strike="noStrike">
                <a:solidFill>
                  <a:srgbClr val="222a35"/>
                </a:solidFill>
                <a:latin typeface="Calibri"/>
              </a:rPr>
              <a:t>May </a:t>
            </a:r>
            <a:r>
              <a:rPr b="1" lang="en-US" sz="2000" spc="-1" strike="noStrike">
                <a:solidFill>
                  <a:srgbClr val="222a35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222a35"/>
                </a:solidFill>
                <a:latin typeface="Calibri"/>
              </a:rPr>
              <a:t>13th</a:t>
            </a:r>
            <a:r>
              <a:rPr b="1" lang="en-US" sz="2000" spc="-1" strike="noStrike">
                <a:solidFill>
                  <a:srgbClr val="222a35"/>
                </a:solidFill>
                <a:latin typeface="Calibri"/>
              </a:rPr>
              <a:t>  201</a:t>
            </a:r>
            <a:r>
              <a:rPr b="1" lang="sr-Latn-CS" sz="2000" spc="-1" strike="noStrike">
                <a:solidFill>
                  <a:srgbClr val="222a35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8720" y="188640"/>
            <a:ext cx="822492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INST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UTIONAL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99640" y="1915920"/>
            <a:ext cx="77821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blic Procurement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.B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 Integration Office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expert revision of the translated text of the EU Regulation on CPV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128520"/>
            <a:ext cx="771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TUATION IN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99920"/>
            <a:ext cx="82580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Twinnin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,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uidelines on use of CPV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re produced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CPV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English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introduced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P Portal and web-site of PPO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201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activities of Twinning project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nce April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2013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new PPL started to apply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CPV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ublishing PP, on PP Portal* and on the web-page of contracting autho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ctures used on the slides 11-17 were downloaded from the official web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ge of PP Portal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portal.ujn.gov.rs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128520"/>
            <a:ext cx="7710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SITUATION IN PRACTI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428840"/>
            <a:ext cx="825804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CAs are obliged to use CPV for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quarterly reporting 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on PP contra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Use of CPV by CAs for purposes of drafting the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annual procurement plan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– software for procurement planning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PPO produced and published on its web-site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standard forms of public procurement notices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that are widely used by CAs for publishing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900000" y="-1035000"/>
            <a:ext cx="1101708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757080" y="-819000"/>
            <a:ext cx="10585440" cy="79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7093080" y="-1611360"/>
            <a:ext cx="2289816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468360" y="-1035000"/>
            <a:ext cx="1008072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1449080" cy="820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981080" y="-1108080"/>
            <a:ext cx="13177800" cy="93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404640"/>
            <a:ext cx="61912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PV, STANDARD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835280" y="3789360"/>
            <a:ext cx="504036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Borisav Kneže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nior Adv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Public Procurement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knezevic@ujn.gov.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423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RTHER DIRECTIONS OF DEVELOPMENT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1844640"/>
            <a:ext cx="792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 PROCUREMENT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ly there is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just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Regulation (EC) No2195/2002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(consolidated versio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ining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users for use of CP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ement of searching mode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system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gistration of bidders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utomatic notification on published tenders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 certain CPV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rther harm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128520"/>
            <a:ext cx="7423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URTHER DIRECTIONS OF DEVELOPMENT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0920" y="169992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STANDAR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ial adjust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Commission Implementing Regulation (EU) No 842/2011  establishing standard forms for the publication of notices in the field of public proc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rther harmonization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 new EU PP Directi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07920"/>
            <a:ext cx="6440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222a35"/>
                </a:solidFill>
                <a:latin typeface="Calibri"/>
                <a:ea typeface="Verdana"/>
              </a:rPr>
              <a:t>REPUBLIC OF SERBIA</a:t>
            </a:r>
            <a:br>
              <a:rPr sz="2800"/>
            </a:br>
            <a:r>
              <a:rPr b="1" lang="sr-Latn-RS" sz="2800" spc="-1" strike="noStrike">
                <a:solidFill>
                  <a:srgbClr val="222a35"/>
                </a:solidFill>
                <a:latin typeface="Calibri"/>
                <a:ea typeface="Verdana"/>
              </a:rPr>
              <a:t>Negotiating Group for </a:t>
            </a:r>
            <a:r>
              <a:rPr b="1" lang="en-US" sz="2800" spc="-1" strike="noStrike">
                <a:solidFill>
                  <a:srgbClr val="222a35"/>
                </a:solidFill>
                <a:latin typeface="Calibri"/>
                <a:ea typeface="Verdana"/>
              </a:rPr>
              <a:t>Chapter 5 –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  <a:ea typeface="Verdana"/>
              </a:rPr>
              <a:t>Public Procuremen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THANK YOU FO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YOUR ATTENTION </a:t>
            </a:r>
            <a:br>
              <a:rPr sz="2500"/>
            </a:br>
            <a:br>
              <a:rPr sz="2400"/>
            </a:br>
            <a:br>
              <a:rPr sz="24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6920" y="128520"/>
            <a:ext cx="7494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LEGISLATIVE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57160" y="1988640"/>
            <a:ext cx="782496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Bylaw on application of Common   Procurement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Vocabulary – propos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COMMON PROCUREMENT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Article 3.1)38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PV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refer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syste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ed to define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 matter of public procurement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ble on PP contracts, and which, at the same time, provides harmonization with other existing class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00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ticle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5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BLIC PROCUREMENT NOTICES/ADVERTISEMENTS ARE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no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ation to submit bids and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tice on dynami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ing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vitation to design con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tice on recognizing qual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ticle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5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BLIC PROCUREMENT NOTICES/ADVERTISEMENTS ARE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r 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ice on concluded framework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on initiation of negotiated procedure without invitation to b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on awarded public procurement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on the results of t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10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on cancelling of public procurement proced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280" y="2133720"/>
            <a:ext cx="79930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ther notices published in accordance with PP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ice on extension of deadline for submission of bids/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on amending public procurement contra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on the filed request for protection of bidder’s r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844640"/>
            <a:ext cx="81424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rticle</a:t>
            </a:r>
            <a:r>
              <a:rPr b="1" i="1" lang="sr-Latn-RS" sz="3200" spc="-1" strike="noStrike">
                <a:solidFill>
                  <a:srgbClr val="000000"/>
                </a:solidFill>
                <a:latin typeface="Calibri"/>
              </a:rPr>
              <a:t> 5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ent of notic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public procurement is determin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Annex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PO determines standard for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public procureme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i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compliance with Annex 3 of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BLIC PROCUREMENT LA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0920" y="1773360"/>
            <a:ext cx="807084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Article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5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cting authority is obliged to u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es and designa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CPV when defining public procurement subjects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blic procurement no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determines (by adoption of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common procurement vocabulary in accordance with the corresponding vocabulary in the European Un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4:35:25Z</dcterms:created>
  <dc:creator>smajstorovic</dc:creator>
  <dc:description/>
  <dc:language>en-US</dc:language>
  <cp:lastModifiedBy>spanic</cp:lastModifiedBy>
  <cp:lastPrinted>2014-04-16T15:55:50Z</cp:lastPrinted>
  <dcterms:modified xsi:type="dcterms:W3CDTF">2014-04-30T11:56:43Z</dcterms:modified>
  <cp:revision>377</cp:revision>
  <dc:subject/>
  <dc:title>Slide 1</dc:title>
</cp:coreProperties>
</file>