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602A-A895-46B5-8F23-32A4A426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6973-6572-4FA6-89BD-D1BCFD00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FA94F-FBC4-4081-89B7-8F283A62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367BD-9C85-4923-9301-7CEC42D0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D9C5C-5E2A-49B0-9453-1793546A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344A5-0BD3-4B56-9AA3-131276BA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3E385-A65D-480C-ABAB-A5F98CB6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C5EC8-A94A-4827-B8C8-BD0287E4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2834C-DDFE-4B3A-9BE2-4BADEA06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11B76-8C7D-4E6F-B9CF-34DC2036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CF203-9ED6-495F-B643-1950A7A3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7C83B-85D0-47F8-8ACF-AD785C8B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7B7-2D55-4E12-A26A-DBAC34E6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55BC0-8A45-4E9D-9AE9-96F01ABD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F3453-2B1C-4B77-A70C-74C33A10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CEEE8-16A2-48D2-AD02-98F4231B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BF758-DB65-459F-807A-A5671944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01102-1949-41B9-A26C-295F3587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92CC6-8B00-4752-BF38-2900F1AB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646E1-29BD-4A21-B248-DF844373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CF1C5-5FA6-448A-B1AF-D730A1BE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A4433-944F-4E88-8CD6-A96D71CA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53AC5-B744-4E2F-A7C8-87AC863E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783E-E37A-4636-9212-F8C2641E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192E2-4674-44E1-A90B-573A0D76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15E74-B5EA-4653-86DE-ED7AD214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6CAE5-23BB-487B-A5C0-9397C0A1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22C61-AF9E-4A3F-88A3-E2078341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4375A-CA18-41AA-AD54-6BFACB75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0FA6E-4DA6-4113-8802-6FFEAD5C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A95D0-E688-4C6C-9802-1BAF4ACF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8BBFD-D633-4034-BCD6-DCB79C1E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E0104-2057-4DE5-ADED-F416A5A0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1A088-110B-4CB9-BC99-0082A4FF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07F7-7DF5-49B0-974D-F025DB3B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83454-D8BA-4903-80D9-9AAE01B3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3CD7A-5AC2-4398-AD8C-F877C1C9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9752B-E748-41EA-B8DD-B7FF2D6C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C55C7-3F6D-4A64-B188-9902AEE9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3B39E-4B7B-4B13-BDEC-24ADD77C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BA4BD-6203-40E4-B3DE-2B52BCB6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B30BA-3FFC-4A95-8A4A-4A04C37B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1AC5B-4685-4C09-940A-C41648D3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0E245-CD99-4EB7-999D-CEB4E024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E646A-0E49-4E6A-8BB7-11668D50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70F5-0860-4F0A-8F1F-12CA540D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C66D8-29D7-48CD-80E7-0B640FEE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1ACC2-2B54-4054-A525-80E13465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1C78D-58E6-44CD-9D0E-52D38368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EF97F-52E6-4916-AED9-B182E803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5A2D6-A0F0-4E44-9A0C-8E4D0B09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BE4474-9C1E-472C-90E4-8CD68487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73DD0E-9D1A-4E9F-A96F-A0C8AE31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8FDE9A-6C02-41A2-85BF-DA499C77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5246A-EFD7-4A64-AEB1-108EC12E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1F4934-BF0F-482D-BAA6-3F52F0C1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A814-25FC-4A80-96FD-D9FC010C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5EA854-6CEE-42A1-BF7F-949E95CB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8F7A7-02F0-47C4-8296-A0A1BAD6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99FA1E-866A-47A4-8824-B078475C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9CDBD-D177-4583-B594-8B0CC415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5E200F-B621-4421-A30D-7EB567EB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3CD39B-AD37-4077-800D-F1E8D688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EFBE67-4089-4A3B-9C45-B2E461F8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4D0FD3-A6BF-4F6D-8098-F2A3555F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441EA7-C0D9-45CE-9675-A92B4A73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FDC2C1-5168-4D9B-BC78-03E2CB4C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42EC-8F40-4DDA-A07E-7A5745F0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B39301-D10F-49B4-B3D5-F12276E7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335DB5-561F-4C0D-B352-A54C2755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B4685F-A96E-4A13-B9C0-1F2B6151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8D1338-357B-4832-95F0-CD8E419C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756E28-BF3A-4E66-8CB4-85354971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97035-7944-4F39-A784-950186F5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FF9666-DB4F-4D84-9445-01DD7130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F01015-BC84-4C05-A141-5EE97984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7D6589-B910-4426-8BDD-5550A811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DBD1F6-85A7-4396-80D4-07BA4A6E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C6B9-E211-49E8-8592-9C823636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D98B33-40F5-4C1A-A423-C104AEB8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0DDD56-FEAE-4EF3-925D-DFA6CE5A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815F91-25E2-4A35-B58C-1F5645EB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6D4091-AF28-45EB-83B6-64EE8FD8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5DAEAF-E176-4E69-9BC0-8F1BDAD0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C379F-396F-4F09-BF19-144E0479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DDBE48-10B1-41E6-B2D9-41D4E694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0D1AA8-0A30-496D-829D-180AEA93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CED890-C107-491A-A76B-BDA8F6A8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E130D2-7315-486F-A062-EC4C7857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1EA1-6006-46D6-BA35-43413A90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AFFFE5-B3E0-40A8-A877-83030923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34144C-31DE-405C-A7F4-47C46655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41D25B-E790-4C76-9ED8-EDD89161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409235-82D3-4FB5-A2E6-DD7DEA4E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813EAE-487E-46BF-8381-E0AB4766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5516D1-4886-4729-BEF9-FFCD95C8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15B8B4-42B2-4D53-8399-1F6932B9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0C58D4-3CCE-45B0-8037-57ECBEA5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5D8506-C878-46AC-8EA9-84EC8D50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1A6B49-D51F-41BB-B570-CBAFC1D8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AD90-98DC-4958-BF39-8BF4AF90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DEC130-FFDB-4596-83AF-75D79A49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EBA99B-5081-4C3B-81A8-2649BDF2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0C31B2-D68C-44FF-8146-09ABCAB5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9A8BE8-0A4A-420C-B306-34E29E23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C7DAD6-5DC4-4C71-A0DA-86F9DC56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A2DF2D-833F-4693-934E-DDC45784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B663D1-279C-4C34-B59D-3FDF4C57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4AF8BC-021A-4BFE-83A2-F5CC6FA5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C13E88-EA7D-400E-9018-E8E0DD7E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190151-B41B-4142-B6FD-37B41BD1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FCB9-7FD7-415E-AE5B-3B5E98B5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C983-F93A-40E5-9066-B95363A8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CBA872-8667-4926-9E6E-854D87CC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0945B1-EC9F-4D3D-AABD-01178E09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E6B28B-3AFD-41A2-B3E0-487F6D4C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B296FE-F9B9-4EDB-9F98-45CA876C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14E2C7-A671-4627-8D5E-7F86ECAC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9390BF-5428-4E5F-8DEC-3CEAA0D0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5F6D61-1C88-418A-AE6E-0245F22C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6A2BC1-D4DE-46EC-A13A-4B069765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79FDE5-8CD3-42CD-81AD-227DA9AE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EC10AC-24AA-42A7-B5EA-EF76A469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BD09-475D-43F8-82EB-5A6D752D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7F39A9-A9A5-4BE4-B4F2-310BD0CB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4BE0D6-FD52-4A35-AE11-C2ADF5DF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C76277-1908-44AA-9DCB-7D1C8781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1A59AE-735C-4D39-B8F2-CE4CED02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28DA65-5259-4FED-BBA8-72478411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20AD81-49B3-4775-9564-E7FA05DF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4CAB78-7875-425B-868B-8EE1516F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78EC-9697-4A1B-9360-50613FEE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6AD6-44D7-4923-B0C0-748C82DC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C60F-E484-4BC0-8418-E969DC7C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0BAF4-FCED-45BE-A75D-471B9E62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D7B81-84BC-40DA-B902-14553A98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26231-1AD8-4619-8151-E3ED5CB2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68ABD-7A0A-4A3A-AB9F-33346587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FE536-9222-474C-B5E6-FFC863E2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0E64-427F-496F-A5F8-47278020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435E8-F4D1-455F-AAD9-CDC8850C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9B5E8-670D-40B8-85F4-DAD3BBAE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A1DE8-D456-4A5D-A40D-2AABF4F0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A3EB8-8F67-4AAB-A0C1-32E99671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76ABB-20B9-48A2-AC97-84E1CBB6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D40F3-6285-4B14-8F06-6D6F3026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0FA06-2380-4FC2-8D16-096CE196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B8A49-8A45-4125-962F-88DF4A3E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2BE89-8D44-48F7-BF66-C11EB19D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48E02-DBD9-4EE1-A35A-00ABC535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A628-BF15-4485-BB60-538D8E0A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42E31-F314-4327-BEC0-A4F3E9A4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3B43A-C491-4FB3-95E4-2B4AF4F9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1B12C-066B-490A-B429-8CAEA333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0B693-7D0C-4A4F-92E9-ACE54A35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A6E0A-C43D-41F3-9564-EFC298B6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4137E-9CC5-41A8-ABBF-E41AF284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9E3CD-C314-41A8-9235-3B7A2F48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16C6E-B28E-44D8-94B9-5D90ECDD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B979F-C231-4312-9890-5BF283C0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A8FBD-224D-41C3-9415-555CC05A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14B3-2711-48EE-9FD8-4E06AFC3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9B80E-A740-4E4D-AB66-544332B6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8C2DA-8D32-4796-A45E-4AE7FA16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05204-3111-49D5-9710-0F7321F6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270B8-3AC2-483F-81B7-67B0134F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2E228-8702-4056-A18F-E870CF7D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6A672-8643-4DEE-9114-20052B19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8D16E-8A0B-469B-BC9A-14306504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EAC0F-1CA4-4737-A45A-39200E2B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BD8F5-CCC9-4FC9-B845-34DBE61D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8C939-20D3-497F-A131-20A85049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0A35-7610-42B8-8182-9B537E1B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180F0-08B6-46E9-860A-EA9385D8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B75F2-7EFA-401F-A263-3F82DC27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DF04F-3D54-43BC-A7CC-BA28A933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9B506-426C-4908-A0C9-65D8678F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3A7B1-59E3-490B-BE12-7F905136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30D43-C351-4E90-8D10-1017DD52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CCBC0-E58B-4010-986C-827A38A7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6B48D-B96F-40E4-AF06-F19527A8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C2CEB-5C62-493C-91E1-38D9CE87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10289-FC51-4165-A012-CD9D829A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7335-8461-4CD0-A5C4-E1E10F47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9935A-20A0-4697-B442-823D8469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40DDD-3AE2-4C02-B32C-BF1B37A0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F9202-6C25-4EF1-9C7F-56DCF103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B0220-DFBF-4B73-BA87-685E9B01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73210-3594-4A5E-97F7-1BB9C73E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F2C0C-DE27-4B49-BB4D-5D57E589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2A96E-B746-4D8D-BE97-46D98516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E4522-0E47-4331-A167-A36B2122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61D5A-2F4A-4D48-A30A-C915A98C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49DCA-DA08-4FA9-BA86-BACE82FC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64D7-0B02-4E1C-A05B-EDCE50AA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F1EA8-BBDA-4577-935E-2A316FD7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47008-32F5-4E44-9D39-F5636D40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26EBD-898E-4104-B9E8-664A00D6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7D05D-56F0-4B83-9795-72727797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15534-E694-445D-AA11-43F5D74B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5BAF0-011A-4470-98F8-62092F04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87AC5-88A3-436D-AEEA-C2EF3AC8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CCFD7-29BC-4D61-A682-054AC001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C0B7B-899A-42D4-88C8-C5A1321E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534A1-AE35-47A5-A803-19EE4066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C17F-5862-4608-A1D7-7E2D45CD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4F692-33B9-49A7-83E2-2A54B9F1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74870-B411-49E1-937F-3EB0ABB6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C5267-299D-463E-B425-2DB73DB5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D5E92-CD50-4B0C-8062-B91C58AA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82408-58FD-438D-9CCA-2B2F326E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E6507-923F-4293-ADB9-8B1B1883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45063-674F-4CC4-8B1E-213D0F4D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A65DB-ED10-42B1-A89D-EAA79E2E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0D4F5-6B22-422C-9E42-52014536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9697E-3712-4B99-8F3C-CD3C3F26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EFD4-0963-4670-8C3C-455360BAB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1A40-DABD-4673-B8B1-6EB7CF4CB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49F8-3690-47BF-8E91-8A536D866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FD0B-A5FF-4D99-BF2B-82184B454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4349-0474-479D-8C7F-4B719756A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CCED-3B17-4E86-B5AD-0759C2393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9DC2-04F4-4BD0-AFD9-9E2960783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E347-0D73-47B8-94AE-7CADC4C89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6666-760F-4770-A0AD-2B888DED5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0A83-C2A9-42A9-A148-78446D014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DDF2-FD89-4D52-AE06-9E8A5E11A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A026-22B3-4F3A-930F-CDA1AEF8E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8B70-D711-454D-99F7-A6F012CB1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F041-844D-4028-B8F1-D0E5E47C5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04B1-EFC4-45D6-94F0-D9D3BEF8A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6BCE-E440-43DE-9F3F-E717C710E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F7C3-F7CA-4361-91F7-404F274E4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108F-94B8-4D2B-80C1-90D785DC1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jn.gov.me/" TargetMode="External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5" descr=""/>
          <p:cNvPicPr/>
          <p:nvPr/>
        </p:nvPicPr>
        <p:blipFill>
          <a:blip r:embed="rId1"/>
          <a:stretch/>
        </p:blipFill>
        <p:spPr>
          <a:xfrm>
            <a:off x="6622920" y="441360"/>
            <a:ext cx="1122480" cy="1295280"/>
          </a:xfrm>
          <a:prstGeom prst="rect">
            <a:avLst/>
          </a:prstGeom>
          <a:ln w="0">
            <a:noFill/>
          </a:ln>
        </p:spPr>
      </p:pic>
      <p:sp>
        <p:nvSpPr>
          <p:cNvPr id="743" name="TextBox 6"/>
          <p:cNvSpPr/>
          <p:nvPr/>
        </p:nvSpPr>
        <p:spPr>
          <a:xfrm>
            <a:off x="5508720" y="1881360"/>
            <a:ext cx="36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800" spc="-1" strike="noStrike">
                <a:solidFill>
                  <a:srgbClr val="ff0000"/>
                </a:solidFill>
                <a:latin typeface="Verdana"/>
                <a:ea typeface="Verdana"/>
              </a:rPr>
              <a:t>GOVERNMENT OF MONTENEG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800" spc="-1" strike="noStrike">
                <a:solidFill>
                  <a:srgbClr val="ff0000"/>
                </a:solidFill>
                <a:latin typeface="Verdana"/>
                <a:ea typeface="Verdana"/>
              </a:rPr>
              <a:t>Public Procurement Administ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7"/>
          <p:cNvSpPr/>
          <p:nvPr/>
        </p:nvSpPr>
        <p:spPr>
          <a:xfrm>
            <a:off x="0" y="300348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c00000"/>
                </a:solidFill>
                <a:latin typeface="Verdana"/>
              </a:rPr>
              <a:t>INSTITUTIPNAL set-up and the role of central institutions in the public procurement system: current situation, lessons learnt, plans for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0000"/>
                </a:solidFill>
                <a:latin typeface="Verdana"/>
              </a:rPr>
              <a:t>Presenter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andra Škatarić, </a:t>
            </a:r>
            <a:r>
              <a:rPr b="0" lang="sr-Latn-ME" sz="2400" spc="-1" strike="noStrike">
                <a:solidFill>
                  <a:srgbClr val="ff0000"/>
                </a:solidFill>
                <a:latin typeface="Verdana"/>
              </a:rPr>
              <a:t>Head of Department for professional development, training and international cooperation in public procuremen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Verdana"/>
              </a:rPr>
              <a:t>FURTHER PROJECT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Verdana"/>
              </a:rPr>
              <a:t>IPA 2014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`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mplementation of the System of Electronic Public Procurement in Montenegro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pproximate value of the project - 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Verdana"/>
              </a:rPr>
              <a:t>€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1,5 mill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Verdana"/>
                <a:ea typeface="Verdana"/>
              </a:rPr>
              <a:t>Measur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41724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The aims of PP regulation at international level are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The opening up of domestic markets to foreign competition – eradication of “protectionism” in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rohibition of discrimination on the basis of na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Transpar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The aim of “value for money” or “efficiency” are presumed as corollaries of the opening of the PP market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but are not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the main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5400" y="0"/>
            <a:ext cx="821844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ff0000"/>
                </a:solidFill>
                <a:latin typeface="Verdana"/>
                <a:ea typeface="Verdana"/>
              </a:rPr>
              <a:t>Introducing variables aimed at measuring relevant performances of public procur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Content Placeholder 4" descr=""/>
          <p:cNvPicPr/>
          <p:nvPr/>
        </p:nvPicPr>
        <p:blipFill>
          <a:blip r:embed="rId1"/>
          <a:stretch/>
        </p:blipFill>
        <p:spPr>
          <a:xfrm>
            <a:off x="360360" y="1603440"/>
            <a:ext cx="8418600" cy="4522680"/>
          </a:xfrm>
          <a:prstGeom prst="rect">
            <a:avLst/>
          </a:prstGeom>
          <a:ln w="0">
            <a:noFill/>
          </a:ln>
        </p:spPr>
      </p:pic>
      <p:sp>
        <p:nvSpPr>
          <p:cNvPr id="767" name="Down Arrow 3"/>
          <p:cNvSpPr/>
          <p:nvPr/>
        </p:nvSpPr>
        <p:spPr>
          <a:xfrm>
            <a:off x="4205160" y="3492360"/>
            <a:ext cx="486000" cy="76212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48468c"/>
          </a:solidFill>
          <a:ln w="25560">
            <a:solidFill>
              <a:srgbClr val="3231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825480" y="3160440"/>
            <a:ext cx="7693200" cy="5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HANK YOU FOR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Verdana"/>
                <a:ea typeface="Verdana"/>
              </a:rPr>
              <a:t>Institutional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1" descr=""/>
          <p:cNvPicPr/>
          <p:nvPr/>
        </p:nvPicPr>
        <p:blipFill>
          <a:blip r:embed="rId1"/>
          <a:stretch/>
        </p:blipFill>
        <p:spPr>
          <a:xfrm>
            <a:off x="455760" y="1774800"/>
            <a:ext cx="8226360" cy="43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32523"/>
                </a:solidFill>
                <a:latin typeface="Cambria"/>
              </a:rPr>
              <a:t>Institutional</a:t>
            </a:r>
            <a:r>
              <a:rPr b="1" lang="en-US" sz="2800" spc="-1" strike="noStrike">
                <a:solidFill>
                  <a:srgbClr val="632523"/>
                </a:solidFill>
                <a:latin typeface="Cambria"/>
              </a:rPr>
              <a:t>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3252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mbria"/>
              </a:rPr>
              <a:t>Ministry of Finance </a:t>
            </a:r>
            <a:r>
              <a:rPr b="0" lang="sr-Latn-CS" sz="1800" spc="-1" strike="noStrike">
                <a:solidFill>
                  <a:srgbClr val="632523"/>
                </a:solidFill>
                <a:latin typeface="Cambria"/>
              </a:rPr>
              <a:t>–</a:t>
            </a:r>
            <a:r>
              <a:rPr b="0" lang="en-US" sz="1800" spc="-1" strike="noStrike">
                <a:solidFill>
                  <a:srgbClr val="632523"/>
                </a:solidFill>
                <a:latin typeface="Cambria"/>
              </a:rPr>
              <a:t> approval to the public procurement plan</a:t>
            </a:r>
            <a:r>
              <a:rPr b="0" lang="sr-Latn-ME" sz="1800" spc="-1" strike="noStrike">
                <a:solidFill>
                  <a:srgbClr val="632523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3252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mbria"/>
              </a:rPr>
              <a:t>Public Procurement </a:t>
            </a:r>
            <a:r>
              <a:rPr b="1" lang="sr-Latn-CS" sz="1800" spc="-1" strike="noStrike">
                <a:solidFill>
                  <a:srgbClr val="632523"/>
                </a:solidFill>
                <a:latin typeface="Cambria"/>
              </a:rPr>
              <a:t>Administ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632523"/>
                </a:solidFill>
                <a:latin typeface="Cambria"/>
              </a:rPr>
              <a:t>                                                      </a:t>
            </a:r>
            <a:r>
              <a:rPr b="0" lang="sr-Latn-CS" sz="1800" spc="-1" strike="noStrike">
                <a:solidFill>
                  <a:srgbClr val="632523"/>
                </a:solidFill>
                <a:latin typeface="Cambria"/>
              </a:rPr>
              <a:t>-C</a:t>
            </a:r>
            <a:r>
              <a:rPr b="0" lang="en-US" sz="1800" spc="-1" strike="noStrike">
                <a:solidFill>
                  <a:srgbClr val="632523"/>
                </a:solidFill>
                <a:latin typeface="Cambria"/>
              </a:rPr>
              <a:t>ompliance of regulation with the</a:t>
            </a:r>
            <a:r>
              <a:rPr b="0" lang="sr-Latn-CS" sz="1800" spc="-1" strike="noStrike">
                <a:solidFill>
                  <a:srgbClr val="632523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632523"/>
                </a:solidFill>
                <a:latin typeface="Cambria"/>
              </a:rPr>
              <a:t>EU legislation</a:t>
            </a:r>
            <a:r>
              <a:rPr b="0" lang="sr-Latn-ME" sz="1800" spc="-1" strike="noStrike">
                <a:solidFill>
                  <a:srgbClr val="632523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632523"/>
                </a:solidFill>
                <a:latin typeface="Cambria"/>
              </a:rPr>
              <a:t>                                                      </a:t>
            </a:r>
            <a:r>
              <a:rPr b="0" lang="sr-Latn-CS" sz="1800" spc="-1" strike="noStrike">
                <a:solidFill>
                  <a:srgbClr val="632523"/>
                </a:solidFill>
                <a:latin typeface="Cambria"/>
              </a:rPr>
              <a:t>-</a:t>
            </a:r>
            <a:r>
              <a:rPr b="0" lang="en-US" sz="1800" spc="-1" strike="noStrike">
                <a:solidFill>
                  <a:srgbClr val="632523"/>
                </a:solidFill>
                <a:latin typeface="Cambria"/>
              </a:rPr>
              <a:t>Preparation and publishing the list of contracting authorities</a:t>
            </a:r>
            <a:r>
              <a:rPr b="0" lang="sr-Latn-ME" sz="1800" spc="-1" strike="noStrike">
                <a:solidFill>
                  <a:srgbClr val="632523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632523"/>
                </a:solidFill>
                <a:latin typeface="Cambria"/>
              </a:rPr>
              <a:t>                                                      </a:t>
            </a:r>
            <a:r>
              <a:rPr b="0" lang="sr-Latn-CS" sz="1800" spc="-1" strike="noStrike">
                <a:solidFill>
                  <a:srgbClr val="632523"/>
                </a:solidFill>
                <a:latin typeface="Cambria"/>
              </a:rPr>
              <a:t>-</a:t>
            </a:r>
            <a:r>
              <a:rPr b="0" lang="en-US" sz="1800" spc="-1" strike="noStrike">
                <a:solidFill>
                  <a:srgbClr val="632523"/>
                </a:solidFill>
                <a:latin typeface="Cambria"/>
              </a:rPr>
              <a:t>Prior approval to certain  public procurement procedure</a:t>
            </a:r>
            <a:r>
              <a:rPr b="0" lang="sr-Latn-ME" sz="1800" spc="-1" strike="noStrike">
                <a:solidFill>
                  <a:srgbClr val="632523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632523"/>
                </a:solidFill>
                <a:latin typeface="Cambria"/>
              </a:rPr>
              <a:t>                                                      </a:t>
            </a:r>
            <a:r>
              <a:rPr b="0" lang="sr-Latn-CS" sz="1800" spc="-1" strike="noStrike">
                <a:solidFill>
                  <a:srgbClr val="632523"/>
                </a:solidFill>
                <a:latin typeface="Cambria"/>
              </a:rPr>
              <a:t>-Monito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3252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mbria"/>
              </a:rPr>
              <a:t>State Commission for the control of public procurement procedure</a:t>
            </a:r>
            <a:r>
              <a:rPr b="1" lang="sr-Latn-ME" sz="1800" spc="-1" strike="noStrike">
                <a:solidFill>
                  <a:srgbClr val="632523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632523"/>
                </a:solidFill>
                <a:latin typeface="Cambria"/>
              </a:rPr>
              <a:t>                                                          </a:t>
            </a:r>
            <a:r>
              <a:rPr b="0" lang="sr-Latn-CS" sz="1800" spc="-1" strike="noStrike">
                <a:solidFill>
                  <a:srgbClr val="632523"/>
                </a:solidFill>
                <a:latin typeface="Cambria"/>
              </a:rPr>
              <a:t>-</a:t>
            </a:r>
            <a:r>
              <a:rPr b="0" lang="en-US" sz="1800" spc="-1" strike="noStrike">
                <a:solidFill>
                  <a:srgbClr val="632523"/>
                </a:solidFill>
                <a:latin typeface="Cambria"/>
              </a:rPr>
              <a:t>deciding upon appeals lodged in public procuremen</a:t>
            </a:r>
            <a:r>
              <a:rPr b="0" lang="sr-Latn-ME" sz="1800" spc="-1" strike="noStrike">
                <a:solidFill>
                  <a:srgbClr val="632523"/>
                </a:solidFill>
                <a:latin typeface="Cambria"/>
              </a:rPr>
              <a:t>t </a:t>
            </a:r>
            <a:r>
              <a:rPr b="0" lang="en-US" sz="1800" spc="-1" strike="noStrike">
                <a:solidFill>
                  <a:srgbClr val="632523"/>
                </a:solidFill>
                <a:latin typeface="Cambria"/>
              </a:rPr>
              <a:t>procedures</a:t>
            </a:r>
            <a:r>
              <a:rPr b="0" lang="sr-Latn-ME" sz="1800" spc="-1" strike="noStrike">
                <a:solidFill>
                  <a:srgbClr val="632523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632523"/>
                </a:solidFill>
                <a:latin typeface="Cambria"/>
              </a:rPr>
              <a:t>                                                          </a:t>
            </a:r>
            <a:r>
              <a:rPr b="0" lang="sr-Latn-CS" sz="1800" spc="-1" strike="noStrike">
                <a:solidFill>
                  <a:srgbClr val="632523"/>
                </a:solidFill>
                <a:latin typeface="Cambria"/>
              </a:rPr>
              <a:t>-</a:t>
            </a:r>
            <a:r>
              <a:rPr b="0" lang="en-US" sz="1800" spc="-1" strike="noStrike">
                <a:solidFill>
                  <a:srgbClr val="632523"/>
                </a:solidFill>
                <a:latin typeface="Cambria"/>
              </a:rPr>
              <a:t>control of public procurement procedures</a:t>
            </a:r>
            <a:r>
              <a:rPr b="0" lang="sr-Latn-ME" sz="1800" spc="-1" strike="noStrike">
                <a:solidFill>
                  <a:srgbClr val="632523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73735"/>
                </a:solidFill>
                <a:latin typeface="Cambria"/>
              </a:rPr>
              <a:t>  </a:t>
            </a:r>
            <a:r>
              <a:rPr b="1" lang="sr-Latn-CS" sz="2800" spc="-1" strike="noStrike">
                <a:solidFill>
                  <a:srgbClr val="973735"/>
                </a:solidFill>
                <a:latin typeface="Cambria"/>
              </a:rPr>
              <a:t>Parties obliged to adhere to the </a:t>
            </a:r>
            <a:r>
              <a:rPr b="1" lang="en-US" sz="2800" spc="-1" strike="noStrike">
                <a:solidFill>
                  <a:srgbClr val="973735"/>
                </a:solidFill>
                <a:latin typeface="Cambria"/>
              </a:rPr>
              <a:t>PP</a:t>
            </a:r>
            <a:r>
              <a:rPr b="1" lang="sr-Latn-CS" sz="2800" spc="-1" strike="noStrike">
                <a:solidFill>
                  <a:srgbClr val="973735"/>
                </a:solidFill>
                <a:latin typeface="Cambria"/>
              </a:rPr>
              <a:t>L (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0" name="28 - Διάγραμμα" descr=""/>
          <p:cNvPicPr/>
          <p:nvPr/>
        </p:nvPicPr>
        <p:blipFill>
          <a:blip r:embed="rId1"/>
          <a:stretch/>
        </p:blipFill>
        <p:spPr>
          <a:xfrm>
            <a:off x="444600" y="1438200"/>
            <a:ext cx="8334360" cy="4822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73735"/>
                </a:solidFill>
                <a:latin typeface="Cambria"/>
              </a:rPr>
              <a:t>Parties obliged to adhere to the PPL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7373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7373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73735"/>
                </a:solidFill>
                <a:latin typeface="Cambria"/>
              </a:rPr>
              <a:t>The list of covered parties </a:t>
            </a:r>
            <a:r>
              <a:rPr b="1" lang="sr-Latn-CS" sz="2000" spc="-1" strike="noStrike">
                <a:solidFill>
                  <a:srgbClr val="973735"/>
                </a:solidFill>
                <a:latin typeface="Cambria"/>
              </a:rPr>
              <a:t> (clasical and utilities sector) is </a:t>
            </a:r>
            <a:r>
              <a:rPr b="1" lang="en-GB" sz="2000" spc="-1" strike="noStrike">
                <a:solidFill>
                  <a:srgbClr val="973735"/>
                </a:solidFill>
                <a:latin typeface="Cambria"/>
              </a:rPr>
              <a:t>published at the public</a:t>
            </a:r>
            <a:r>
              <a:rPr b="1" lang="sr-Latn-CS" sz="2000" spc="-1" strike="noStrike">
                <a:solidFill>
                  <a:srgbClr val="973735"/>
                </a:solidFill>
                <a:latin typeface="Cambria"/>
              </a:rPr>
              <a:t> </a:t>
            </a:r>
            <a:r>
              <a:rPr b="1" lang="en-GB" sz="2000" spc="-1" strike="noStrike">
                <a:solidFill>
                  <a:srgbClr val="973735"/>
                </a:solidFill>
                <a:latin typeface="Cambria"/>
              </a:rPr>
              <a:t>procurement portal </a:t>
            </a:r>
            <a:r>
              <a:rPr b="0" lang="sr-Latn-CS" sz="2000" spc="-1" strike="noStrike" u="sng">
                <a:solidFill>
                  <a:srgbClr val="224b73"/>
                </a:solidFill>
                <a:uFillTx/>
                <a:latin typeface="Cambria"/>
                <a:hlinkClick r:id="rId1"/>
              </a:rPr>
              <a:t>www.ujn.gov.me</a:t>
            </a:r>
            <a:r>
              <a:rPr b="1" lang="sr-Latn-CS" sz="2000" spc="-1" strike="noStrike">
                <a:solidFill>
                  <a:srgbClr val="973735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7373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7373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73735"/>
                </a:solidFill>
                <a:latin typeface="Cambria"/>
              </a:rPr>
              <a:t>The contracting authorities are obliged to implement this Law</a:t>
            </a:r>
            <a:r>
              <a:rPr b="1" lang="sr-Latn-CS" sz="2000" spc="-1" strike="noStrike">
                <a:solidFill>
                  <a:srgbClr val="973735"/>
                </a:solidFill>
                <a:latin typeface="Cambria"/>
              </a:rPr>
              <a:t> </a:t>
            </a:r>
            <a:r>
              <a:rPr b="1" lang="en-GB" sz="2000" spc="-1" strike="noStrike">
                <a:solidFill>
                  <a:srgbClr val="973735"/>
                </a:solidFill>
                <a:latin typeface="Cambria"/>
              </a:rPr>
              <a:t>even in the cases when they are not included in the L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7373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7373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73735"/>
                </a:solidFill>
                <a:latin typeface="Cambria"/>
              </a:rPr>
              <a:t>New element introduced with the new PPL is the opportunity for centralized purcha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73735"/>
                </a:solidFill>
                <a:latin typeface="Cambria"/>
              </a:rPr>
              <a:t>Exe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9737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9737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73735"/>
                </a:solidFill>
                <a:latin typeface="Cambria"/>
              </a:rPr>
              <a:t>Exemptions from the </a:t>
            </a:r>
            <a:r>
              <a:rPr b="1" lang="en-US" sz="2000" spc="-1" strike="noStrike">
                <a:solidFill>
                  <a:srgbClr val="973735"/>
                </a:solidFill>
                <a:latin typeface="Cambria"/>
              </a:rPr>
              <a:t>PPL </a:t>
            </a:r>
            <a:r>
              <a:rPr b="1" lang="sr-Latn-CS" sz="2000" spc="-1" strike="noStrike">
                <a:solidFill>
                  <a:srgbClr val="973735"/>
                </a:solidFill>
                <a:latin typeface="Cambria"/>
              </a:rPr>
              <a:t>(“OG of MNE”, no. 42/11)</a:t>
            </a:r>
            <a:r>
              <a:rPr b="1" lang="en-GB" sz="2000" spc="-1" strike="noStrike">
                <a:solidFill>
                  <a:srgbClr val="973735"/>
                </a:solidFill>
                <a:latin typeface="Cambria"/>
              </a:rPr>
              <a:t> </a:t>
            </a:r>
            <a:r>
              <a:rPr b="1" lang="sr-Latn-CS" sz="2000" spc="-1" strike="noStrike">
                <a:solidFill>
                  <a:srgbClr val="973735"/>
                </a:solidFill>
                <a:latin typeface="Cambria"/>
              </a:rPr>
              <a:t>- </a:t>
            </a:r>
            <a:r>
              <a:rPr b="1" lang="en-GB" sz="2000" spc="-1" strike="noStrike">
                <a:solidFill>
                  <a:srgbClr val="973735"/>
                </a:solidFill>
                <a:latin typeface="Cambria"/>
              </a:rPr>
              <a:t>Articl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9737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73735"/>
                </a:solidFill>
                <a:latin typeface="Cambria"/>
              </a:rPr>
              <a:t>Contracts in the Water, Energy, Mining, Telecommunications and Transport Sectors not Subject to this Law – Exemptions from the Application of PPL </a:t>
            </a:r>
            <a:r>
              <a:rPr b="1" lang="sr-Latn-CS" sz="2000" spc="-1" strike="noStrike">
                <a:solidFill>
                  <a:srgbClr val="973735"/>
                </a:solidFill>
                <a:latin typeface="Cambria"/>
              </a:rPr>
              <a:t>(“OG of MNE”, no. 42/11)</a:t>
            </a:r>
            <a:r>
              <a:rPr b="1" lang="en-GB" sz="2000" spc="-1" strike="noStrike">
                <a:solidFill>
                  <a:srgbClr val="973735"/>
                </a:solidFill>
                <a:latin typeface="Cambria"/>
              </a:rPr>
              <a:t> </a:t>
            </a:r>
            <a:r>
              <a:rPr b="1" lang="sr-Latn-CS" sz="2000" spc="-1" strike="noStrike">
                <a:solidFill>
                  <a:srgbClr val="973735"/>
                </a:solidFill>
                <a:latin typeface="Cambria"/>
              </a:rPr>
              <a:t>- </a:t>
            </a:r>
            <a:r>
              <a:rPr b="1" lang="en-US" sz="2000" spc="-1" strike="noStrike">
                <a:solidFill>
                  <a:srgbClr val="973735"/>
                </a:solidFill>
                <a:latin typeface="Cambria"/>
              </a:rPr>
              <a:t>Article 1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UROPEAN INTEGRATION PROCESS OF MONTENEG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stablishing the Working Group for preparing negotiations on Montenegro`s accession to the EU in the area of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cquis communautair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elating to the Negotiation Chapter 5, Public Procurement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Key institutions of the public procurement system - Public Procurement Administration(PPA) is one of them, make significant contribution to the process of the European Integ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ublic Procurement policy to the Europea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7640" y="23292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UROPEAN INTEGRATION PROCESS OF MONTENEG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63280" y="1573200"/>
            <a:ext cx="769284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Calibri"/>
              </a:rPr>
              <a:t>EC Screening Report for Chapter 5–Public Procurement adop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Calibri"/>
              </a:rPr>
              <a:t>Negotiating position in the field of Public Procurement  circulated to the Council on October 14, 20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Calibri"/>
              </a:rPr>
              <a:t>The Third meeting of the Accession Conference with Montenegro at Ministerial level was held on December 18, 2013 in Brussel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Calibri"/>
              </a:rPr>
              <a:t>to open negotiations on Chapter 5 – Public Procurement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Verdana"/>
                <a:ea typeface="Verdana"/>
              </a:rPr>
              <a:t>PROJE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CT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Within Multi-beneficiary IPA Project `Training in Public Procurement in Western Balkans and Turkey` Montenegro gained recognized European certificates and established national core team of 12 procurement tr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Implementation of the Project `Strengthening of the Public Procurement System in Montenegro` initiated on June 4, 2012 and terminated on Jule 02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xperts in the following areas: Law, IT sector, Audit/Inspection and Public Procurement (altogether 4) were engaged in the implementation of the above mentioned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1:48:51Z</dcterms:created>
  <dc:creator>Aleksandar</dc:creator>
  <dc:description/>
  <dc:language>en-US</dc:language>
  <cp:lastModifiedBy>Sandra Skataric</cp:lastModifiedBy>
  <dcterms:modified xsi:type="dcterms:W3CDTF">2014-08-25T11:11:08Z</dcterms:modified>
  <cp:revision>49</cp:revision>
  <dc:subject/>
  <dc:title>PowerPoint Presentation</dc:title>
</cp:coreProperties>
</file>