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C0D-E882-458B-B03E-D2E9C501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D36-321E-4A98-A555-5CB526D9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0C1-EC2C-4B5F-88E6-51C13478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562-BAEF-4826-84C7-EC64A90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1D87-9106-40AB-8B57-004539CB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837-55E8-488A-95A8-4F7451E1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FD70-24C2-4276-A261-486C2BE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49C4-9A36-43F2-8C2B-FE2FC1E4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769F-F0B4-4482-B03F-4797231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1A4-2CA1-4B83-9D29-9118F96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569C-327B-4794-8AC3-84AB5E8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E9E-AC6C-4229-89A7-DC62B79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10B6-C2F0-48F0-8C0C-F5D45F0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BC54-8128-409B-9B57-8C94B40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879A-3BD2-4948-B806-9465894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6717-AF65-47F5-AA12-F40F00E2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6595-09F4-42D0-9530-DD336A8C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6F6D-2AF9-4DBC-8395-EBC7AE15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C88F-E177-4892-947F-3C9347D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F075-9FB0-4E6E-9B3E-FC01158E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E465-E4A9-4E50-8960-1AAF7DB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9E48-285A-4035-A4B7-9472E5C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DBF-EE09-4DE0-BC37-6884C84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32CA-B10E-4293-849E-76E165A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47FA-9328-4489-A411-202B652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B843-2B72-4167-AD74-82BCC8C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53A8-831A-438E-9B19-637CB4D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F978-8375-489F-A3AF-DB1111B9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90FD-D7AF-4C9C-882D-25428786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98B3-94B1-4E31-9542-F342D412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3679-6220-4E77-B2CD-756D9516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26F5-F559-42EC-8EC7-0B3C94C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BA68-D2FA-47F9-AF60-EFAED928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E0E-AC0B-4ADD-B8A5-4790104E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5A36-7620-4C2F-8EF7-50448A3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9D27-F660-4B3D-ABC3-134B20D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B9F0-A1B7-41D9-A3F3-37AFF51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2519-9BE7-40DC-9A56-214DF78C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EA3F-A6EA-42F7-B35D-21B95B6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FD17-4231-4B1E-A755-F44C229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B328-F69B-4003-9CE3-D933700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37F1-2044-4882-84A6-165AF033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A767-32F8-4FE0-BE9F-5EA84019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215-F165-4978-B7E6-806A5C7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724-DFF2-4257-B93A-1551FBDB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427-EF82-440C-9651-FB7201A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74E-49BA-40EF-B347-2ED91AE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E9D-25F4-4F49-8680-A0133A1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C55-AF19-40A8-AA9B-8A7613E54D3B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69EA-5B49-48FB-A3C5-372BC91F8F47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BBE-1C0F-4376-B733-2F9C0EEFAACF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1468-F061-4CFE-B670-BB41C43428D8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777708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UBLIC PROCUREMENT SYSTEM IN </a:t>
            </a:r>
            <a:br>
              <a:rPr sz="4400"/>
            </a:br>
            <a:r>
              <a:rPr b="0" lang="bs-BA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BOSNIA AND HERZEGOVINA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920" y="544500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19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9-10 september 2014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19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Vlora, Albania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9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ublic Procurement in Bosnia and Herzegovin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2640"/>
            <a:ext cx="7354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pted new text of the Public Procurement Law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rectives EU 2004/17 and 2004/18 adopted, and in a large extent Directives 2007/66 and 2009/81</a:t>
            </a:r>
            <a:r>
              <a:rPr b="0" lang="bs-B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s well a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all be in the force by the end of November 2014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ort for the new PPL text: SIGMA, WB, EBRD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roposed solu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12640"/>
            <a:ext cx="7354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 of transparency by disclosing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curement pl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 Information Noti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oluntary ex ante transparency notic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ices for the procurement with below primary threshold valu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act implement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roposed solu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483920"/>
            <a:ext cx="6923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 procurement for natural and legal monopol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amework agreement with several tenderer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rter deadlines in case of TD publication at the Public Procurement Portal or in the case of publication of Prior Information Noti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CPV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rtified Procurement Offic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PA new competenc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412640"/>
            <a:ext cx="7354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ganizing trainings for accredited trainers and Public Procurement Officer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ing the work of accredited trainers and keeping up Records regarding accredited trainers and Public Procurement Officer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possibility of lodging misdemeanor charges when the legal protection procedure was not initiat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Information syste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96640"/>
            <a:ext cx="706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ormation system for the an electronic publication of notice relating public procurement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ormation system for the an electronic submission of the Report on the signed contracts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act authorities and tenderers Register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GRATION INTO ONE SYSTEM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together with an e-auction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rebuchet MS"/>
              </a:rPr>
              <a:t>Activities, challenges, obstacl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484280"/>
            <a:ext cx="735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PA Project: „Strengthening Public Procurement system in Bosnia and Herzegovina“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ption of Implementation regula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engthening the administrative capacity of contracting authorities and tenderer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ining of authorities responsible for the implementation of the PPL - Courts, Prosecution investigators, Investigating authorities ..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rebuchet MS"/>
              </a:rPr>
              <a:t>Activities, challenges, obstacl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44280"/>
            <a:ext cx="7354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 additional training for accredited </a:t>
            </a:r>
            <a:r>
              <a:rPr b="0" lang="bs-B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blic </a:t>
            </a:r>
            <a:r>
              <a:rPr b="0" lang="bs-B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ocurement trainer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ining and certification of Public Procurement Officer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elopment of e-auction and i e-procuremen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cessary to increase the capacity of the PP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sible lack of wil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2:32:31Z</dcterms:created>
  <dc:creator>Esad Mulabegovic</dc:creator>
  <dc:description/>
  <dc:language>en-US</dc:language>
  <cp:lastModifiedBy>Sanja Cubela</cp:lastModifiedBy>
  <dcterms:modified xsi:type="dcterms:W3CDTF">2014-09-02T14:20:45Z</dcterms:modified>
  <cp:revision>62</cp:revision>
  <dc:subject/>
  <dc:title>PowerPoint Presentation</dc:title>
</cp:coreProperties>
</file>