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373B-BAB6-495D-8767-A080CA1CD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DA4E-F753-4950-B487-FE8B38F7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08D2-B63E-4A88-8B38-0DDBD0A90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70DF-167B-4520-A4D3-AB515C38A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A96E-7AC8-421E-B3CA-4412C3ADD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FB18-0444-4E36-805F-200D08FE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0550-0D04-4760-A2A5-7183EE17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953DD-AF64-4109-B7C0-0D6C6976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F5AD-03CC-482C-B73D-4BF57AEA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E067-49FD-42E5-923F-A729BB82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1FAB-2ADF-4E13-9060-8F5BF0F6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A8E6-F0B2-4CAA-BD37-8327F52C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B8DC-51FC-4934-B069-936F97A4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9D20-7309-4D8C-945F-F430F2C2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C974-C9A4-4CE9-9FD6-3EFC31E8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AABF-CF3D-466C-819D-E25881CEF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6539-70B9-4CCD-9ECC-1BB699CD9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6ED20-471C-42DF-AF50-B6B8C8268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2A87C-3878-46BF-949B-D7C8ADD6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750B2-034D-46D6-9362-FBDEE9BF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B8867-03C9-4E76-9A60-9FCE26DC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48DC0-7B1A-4C9E-B2DE-C0150BAF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4830-D17F-47BF-A660-3D1002C5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C2D2C-7F13-44F9-A4F2-4E9D1B28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70830-52AD-4D67-A85F-2F2239C5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28B94-3611-4BA1-A780-57B148E5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45078-F588-4FF2-AD5C-51E608DA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03F32-310E-4A9F-A1B3-A4FC3594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E031B-95CD-4726-9EDB-29D184222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859C8-5BF6-4B3C-8D46-D033C94ED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D7B20-E198-439A-8E61-B1F315B92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AEC24-A1A7-40C9-8A84-8C4E099E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69841-700A-4073-BF89-2DCC85D5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1A8D-D715-4D28-97D4-C29F37FD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710CE-E42F-4BEE-A681-54D33CF0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BA87A-A286-4454-9CF3-3428B031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0D408-479B-4ED0-959D-365EC957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459B3-42D1-46B0-8C36-1FF2756E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6769C-B975-427A-B906-D1D8249A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3EED0-5180-4064-A82C-4829AB22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8E21A-A6B0-40AC-9ADE-120D64BB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FC260-54B7-427F-BDB9-38AED391D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59471-2331-4B5A-92A0-3360A0D11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88D8-B975-4688-BEA6-9D669292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F239-49F8-494D-A822-38CF6F62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DEE5-4590-468A-AC33-F07D2904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1A79-5E94-4EEE-9C21-59A777D0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1FE9-1D57-4CAA-854B-01AB0AAC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s-BA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s-BA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9484-6E54-421C-A9B0-C4BFEE16ADAA}" type="slidenum">
              <a:rPr b="0" lang="bs-BA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s-BA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s-BA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C39D-4CD0-46F6-B4F2-68F7BEDFF466}" type="slidenum">
              <a:rPr b="0" lang="bs-BA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s-BA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s-BA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30C7-AC89-4E3C-8E97-D596DCD40500}" type="slidenum">
              <a:rPr b="0" lang="bs-BA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s-BA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s-BA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6286-9E2A-4031-BD59-2AAFE4BA2695}" type="slidenum">
              <a:rPr b="0" lang="bs-BA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920" y="1557360"/>
            <a:ext cx="734544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s-BA" sz="44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SISTEM JAVNIH NABAVKI U </a:t>
            </a:r>
            <a:br>
              <a:rPr sz="4400"/>
            </a:br>
            <a:r>
              <a:rPr b="0" lang="bs-BA" sz="44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BOSNI I HERCEGOVINI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250920" y="5445000"/>
            <a:ext cx="47527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s-BA" sz="19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9-10 septembar 2014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s-BA" sz="19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Vlora, Albanija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7993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s-BA" sz="3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Javne nabavke u Bosni i Hercegovini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052640"/>
            <a:ext cx="7354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s-BA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Usvojen novi tekst Zakona o javnim nabavkama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s-BA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euzete Direktive EU 2004/17, 2004/18, a u značajnoj mjeri i Direktive 2007/66 i 2009/81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s-BA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očetak primjene – kraj novembra 2014. godine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s-BA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odrška novom tekstu ZJN: SIGMA, WB, EBRD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2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s-BA" sz="3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Predložena rješenja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412640"/>
            <a:ext cx="73548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s-BA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ovećanje transparentnosti objavom: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s-BA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lana nabavki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s-BA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ethodnog informativnog obavještenja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s-BA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obrovoljnog ex ante obavještenja o transparentnosti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s-BA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bavještenja i za nabavke manje vrijednosti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s-BA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ealizacije ugovora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s-BA" sz="3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Predložena rješenja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6840" y="1483920"/>
            <a:ext cx="69231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s-BA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ema nabavke za prirodne i zakonske monopole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s-BA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kvirni sporazum sa više ponuđača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s-BA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kraćivanje rokova u slučaju objave TD na Portalu javnih nabavki ili u slučaju objave prethodnog informativnog obavještenja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s-BA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Upotreba CPV- a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ertificirani službenik za javne nabavke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139160" cy="9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s-BA" sz="3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Nove nadležnosti AJ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12640"/>
            <a:ext cx="7354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s-BA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rganizovanje obuka za akreditovane predavače i službenike za javne nabavke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s-BA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aćenje rada akreditovanih predavača i vođenje evidencije o akreditovanim predavačima i službenicima za javne nabavke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s-BA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ogućnost podnošenja prekršajne prijave, kada nije pokrenut postupak pravne zaštite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85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s-BA" sz="3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Informacioni sistemi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196640"/>
            <a:ext cx="7067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s-BA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formacioni sistem za elektronsku objavu obavještenja vezanih za javne nabavke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s-BA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formacioni sistem za elektronsku dostavu izvještaja o zaključenim ugovorima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s-BA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egistar ugovornih organa i ponuđača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s-BA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TEGRACIJA U JEDAN SISTEM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s-BA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zajedno sa e-aukcijom)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139160" cy="9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s-BA" sz="3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Aktivnosti, izazovi, preprek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700280"/>
            <a:ext cx="73548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s-BA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PA Projekat: „Jačanje sistema javnih nabavki u Bosni i Hercegovini“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s-BA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Usvajanje podzakonskih akata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s-BA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Jačanje administrativnih kapaciteta ugovornih organa i ponuđača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s-BA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buke organa nadležnih za provođenje ZJN - Sudovi, Tužilaštva, istražni organi,..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s-BA" sz="3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Aktivnosti, izazovi, preprek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844280"/>
            <a:ext cx="7354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s-BA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oobuka akreditovanih predavača javnih nabavki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s-BA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buka i certificiranje službenika za javne nabavke,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s-BA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azvoj e-aukcije i e-nabavki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s-BA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eophodno povećanje kapaciteta AJ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s-BA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oguće odsustvo volje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2:32:31Z</dcterms:created>
  <dc:creator>Esad Mulabegovic</dc:creator>
  <dc:description/>
  <dc:language>en-US</dc:language>
  <cp:lastModifiedBy>Sanja Cubela</cp:lastModifiedBy>
  <dcterms:modified xsi:type="dcterms:W3CDTF">2014-09-02T14:20:20Z</dcterms:modified>
  <cp:revision>26</cp:revision>
  <dc:subject/>
  <dc:title>PowerPoint Presentation</dc:title>
</cp:coreProperties>
</file>