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566-21A7-47D1-8EC5-2D397DE7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FEB-7F38-4CFD-92C0-D207FB4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77967-4903-4117-8427-C94E31CB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FD4E9-F629-47D2-BEBC-355D2C4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9A6A7-649F-464E-8ABD-C1D6CE14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60BC6-3E38-4034-9F4F-772AF7D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EE8C-5A0C-46A9-8FAD-96D213C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6BF6C-4663-4193-B350-B3987A8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417D6-0F5E-4BCE-B8A4-BF24D4CE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DF87C-729E-4D48-A46E-68A1DD6B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94C6-EE23-4188-A00E-25EEDB64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1A9A-9800-478B-ADDF-29C0CA48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3FE-890E-4A91-AF61-AE1DDB7D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3CDC3-53F2-4281-8D8E-69E1D11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A809C-05E7-4354-99F1-57156E0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BA7F1-FFAE-46BF-8935-5949AD31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5D4B4-64E2-44BF-B53D-64F8F59E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A669E-3334-4516-BAE7-322F075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25D39-5532-4375-BBF1-C3EE2DA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E995D-7DD9-42A7-888F-44D908C1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67DDA-89FA-4301-A433-BA09AB10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741E0-5CBB-4589-AD8B-4D714A7C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8EEE4-B668-4EBB-BE08-AB8EBB46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619-6A3D-4475-A38F-084CE415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ECBB0-1E10-4AC6-AA50-3949773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723E7-4710-475C-98A4-066050E1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AF58-B845-4CFA-A59F-74B39E32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7977B-BE77-4CE3-A57A-9892598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E9AD5-88FB-4EEC-8645-A90DBA50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6646-AF06-4FBF-AF70-CCAC184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D0511-6E8C-4638-A5B3-C46877B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5594A-649D-426C-85DC-22118BD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2F251-9E0A-428D-9903-46A07C4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B1870-A57D-49AA-A95A-D2D1191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7EF-8945-4B4D-9E63-A2F5A991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ED602-A45D-49D6-9618-8E39C8A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6E32B-BA04-4DCB-B82C-3DE28EE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EFEA-9896-40C9-978A-0481B691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814-F6E0-453C-A49F-DD946D62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5BC4-9396-40D8-8364-7B65409E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0930-DA9C-4DFA-A55F-63B00F18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721-6AED-4B40-A9EF-071126D5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6962-D620-47CA-8482-91D4D80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31C9-0566-4F0A-9A96-5839DB7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275-2B72-465C-BDA4-CFED2FF1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14D7-7D9E-46BB-83C4-E03D39E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1AFA-AE54-4EBD-9487-C1701F6C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9B8D-CE30-45FD-923B-4AA9375F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8BB-C341-437B-9440-B124CBB5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9AB-9772-4179-93E1-FAFC19C2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2A92-C67C-4FAC-ACEA-94ECB769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8A18-81CE-4ED6-A284-FB616C4F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F6A1-3E53-4FDF-8F52-B8080BD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214E-19B8-4E5E-A69E-585BA4D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4BC3-E536-40EB-A613-C2091C5B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5A4-0E7C-48DB-8FB4-CC52170F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3557-B127-42C5-A903-5F0458FF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EF59-27E7-489D-9D78-3E8ACD89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FC57-C584-4962-B121-B303611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0F0F-85F6-4DDE-B646-7B89F43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4CBF-93F4-49E7-9B21-08F6B1E6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02E0-C1F8-4D19-9E5A-882E82EB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AC18-388B-4144-B5CC-DB945244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0007-678C-4149-B898-25B03D32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9001-D61A-4682-B24B-DE916365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D7B0E-A139-46DC-8543-0E849775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401-1986-436F-B2EF-734ADCCC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C4A8-723D-4BFC-99C8-CBBEE1BD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CA20-D9EB-408F-AF5C-BE4BED8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4F0E-6749-4E88-9F67-A40B866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2473-40CD-4231-B473-45434F16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468C-DA56-4662-BA3A-C039FE7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F777-315D-4EF6-9B66-24ADDBA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AE44-40C3-49E4-8DD9-D8C5DC4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3FE7-B1F7-43BB-BA9B-05EFCBA5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37A9-3CD6-4B4C-A89D-6FC57965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869C-C53A-4215-883A-055AEF64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98D-9E6C-4AFF-842C-9EB19094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1688-FB57-4D40-83BC-299A961D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3DCA-A99D-446E-BFB7-DEF4FF3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5D490-32BC-411D-8BDB-12F3E8AE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9F97-ED35-44A2-A10E-763CA8D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83F3-174C-41DC-BED4-44743780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9D9F-9A55-4476-A5D6-26C2C79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C1A5-12AC-419A-8CC3-339C6A0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7A50-478C-4188-9722-7280BA11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64A2-FE7D-4EE8-B2DE-87F6A4F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5240-EDD1-4CDC-B0BC-8871F207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260-BF88-42D8-8726-0278473B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92D1-AAA4-40E8-955F-7B0DCF6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FBE6-0CCB-483F-BC81-BC278F12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A920-5244-406D-BA65-59988D35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7A94-383B-47B3-A6C7-F2D5E3F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7C703-AB6E-4DCB-AD3D-6E42A03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59D4-1E1F-4D6D-BA5E-F56E7E47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A79C-3F88-47FF-B5DF-CFB2BC19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FBB4-A112-42EB-B991-EB12CE16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389F-6482-47B0-BE0C-7C1C36F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30703-5CC9-4781-B297-AEB2912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130-EF30-4A92-9E73-30B047C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2A386-37E2-4186-BF90-771A207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03F7-D716-49F4-BF11-7F82FD3E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536A-337E-4FE5-BEB0-A8EBEE18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6F058-FE04-4009-B46A-81EB9C9B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347C-EF21-423D-AB0D-3F873AE9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DEDA-16E1-4B12-9EC7-84ABCA53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9A661-6AAC-4B62-AC6F-AB34BF2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AC7B7-08D4-4E4E-A07E-88B5D71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2FB59-B291-4833-B503-E107D2EA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545EC-9F5F-4512-AA53-2CB4F59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CCC-9033-4663-8D14-1432463A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C8D5-4C7A-439E-A5B1-ABAE248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7FE8A-B9B8-4610-86D1-F97567E5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86E8-4346-4331-9395-3645EC3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FAF1-E619-4B36-9D44-61A60658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09D3A-DC3A-4D0A-AE44-0D8225ED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490F-A429-4DFD-BFA2-A92DF37B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F55E-5564-4133-8CC4-32E4307D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C2B7-7345-4773-8C68-E28E2E9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AF04-4106-4F09-9267-3487017B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B4CF0-3101-4BC6-B935-EB45F9ED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C04-28D3-4CAC-BA65-C20405B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DC5A4-ECD3-4749-946A-35DBC10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B5E6-BF02-4428-9F02-71FBABB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BC8A-F8C7-4823-B3EE-070ACE11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0BD8-1808-496E-B930-5DDFAE5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8D82-6DC2-441C-BC22-48892F87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863D-5013-49C3-9EC5-9C9D7A19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3BF7-2966-473B-B9A4-609DF97A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95900-B4A4-466F-9780-3CAC0D2B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EFD64-7A42-495F-B39B-2FEDD9C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E1956-50F8-48DE-BE5D-54429BC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54C-547E-4247-B73E-A474A2E21513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64C6-3383-4655-BEAD-9067F8370B7B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15D3-49D0-4048-8BBE-D7437453D016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javni nabavki c_malo"/>
          <p:cNvPicPr/>
          <p:nvPr/>
        </p:nvPicPr>
        <p:blipFill>
          <a:blip r:embed="rId3"/>
          <a:stretch/>
        </p:blipFill>
        <p:spPr>
          <a:xfrm>
            <a:off x="6929280" y="214200"/>
            <a:ext cx="2000520" cy="14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4CF4-5EC3-4EAE-89FF-0DA5862FCBA6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avni nabavki c_malo"/>
          <p:cNvPicPr/>
          <p:nvPr/>
        </p:nvPicPr>
        <p:blipFill>
          <a:blip r:embed="rId3"/>
          <a:stretch/>
        </p:blipFill>
        <p:spPr>
          <a:xfrm>
            <a:off x="7143840" y="214200"/>
            <a:ext cx="200016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241-4008-45ED-85AF-645E27B62AB3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0F7D-1FE4-4058-9288-437CAE79C3AA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4DCD-F5E6-4CBB-91B7-AED3E0F44FF5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999A-A8EC-4C36-BE31-5AB795AAF126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javni nabavki c_malo"/>
          <p:cNvPicPr/>
          <p:nvPr/>
        </p:nvPicPr>
        <p:blipFill>
          <a:blip r:embed="rId3"/>
          <a:stretch/>
        </p:blipFill>
        <p:spPr>
          <a:xfrm>
            <a:off x="6929280" y="214200"/>
            <a:ext cx="2000520" cy="1413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2390-B3A4-4AD7-9D58-02CC15178DE8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B2C3-08C4-443B-AECD-ECA90670BE06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javni nabavki c_malo"/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912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0D35-CA1D-4099-92D6-E738948BF6C1}" type="slidenum">
              <a:rPr b="0" lang="bs-B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642840" y="1268280"/>
            <a:ext cx="5249880" cy="44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gal and institution setup of public procurement in Macedonia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7" descr="javni nabavki c_malo"/>
          <p:cNvPicPr/>
          <p:nvPr/>
        </p:nvPicPr>
        <p:blipFill>
          <a:blip r:embed="rId1"/>
          <a:stretch/>
        </p:blipFill>
        <p:spPr>
          <a:xfrm>
            <a:off x="857160" y="714240"/>
            <a:ext cx="2143080" cy="15145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javni nabavki c_malo"/>
          <p:cNvPicPr/>
          <p:nvPr/>
        </p:nvPicPr>
        <p:blipFill>
          <a:blip r:embed="rId2"/>
          <a:stretch/>
        </p:blipFill>
        <p:spPr>
          <a:xfrm>
            <a:off x="857160" y="2571840"/>
            <a:ext cx="2122560" cy="15001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javni nabavki c_malo"/>
          <p:cNvPicPr/>
          <p:nvPr/>
        </p:nvPicPr>
        <p:blipFill>
          <a:blip r:embed="rId3"/>
          <a:stretch/>
        </p:blipFill>
        <p:spPr>
          <a:xfrm>
            <a:off x="857160" y="4643280"/>
            <a:ext cx="2022480" cy="142884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9"/>
          <p:cNvSpPr/>
          <p:nvPr/>
        </p:nvSpPr>
        <p:spPr>
          <a:xfrm flipH="1">
            <a:off x="3427560" y="428760"/>
            <a:ext cx="1440" cy="5645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a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overnment was very supportive of the use of e-a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of 2012 there is mandatory 100% use of e-auctions, except in rare cases defined b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4,000 auctions were carried out in 2013, or around 130 per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verage of 17% reduction in price compared with initial pric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shot opportunity – new mechan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f-sustainable training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13880" y="1988640"/>
            <a:ext cx="7643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datory certification of procurement officers through electronic train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of trainers established by PP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training program for five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control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rtification&amp; recertification of procurement officers and tr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571680" y="177336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rding to the Training Program in 2013, PPB organized 19 certification trainings, attended by 376   participants from 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B organized and carried out 7 recertification trainings attended by 127 participants from 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EO, PPB organized and carried out 3 trainings in total attended by 39 participa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f 29 carried trainings, attended by 542 participants  from CA and EO in 201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f more than 100 carried trainings in last few years and more than 2000 particip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f-sustainable training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d futur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8920" y="1700280"/>
            <a:ext cx="8209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w on defense proc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mulate and increase the usage of electronic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e-Catalogues, e-Invoicing and e-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 innovations in PP, green proc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osition of new EU directives in national legi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989000"/>
            <a:ext cx="7354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bjn.gov.m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s://e-nabavki.gov.m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blic procurement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2960" y="162864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orce from November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d 8 amendments so far, 9-th is on th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out of the existing 8 were adopted in 2013 and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atest amendments 2013-20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557360"/>
            <a:ext cx="735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definitions and additional clarification of cer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achment of tender documents with contract no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ation of estimated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es 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 of new soluti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med a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ing competition, facilitating access of EO the as well for narrowing abuses and corruption in 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d control over the procurement in several segments of the procedure most susceptible to abu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ligation to obtain consent from the Council within the Public Procurement Bureau prior to publishing the contract not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P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by the appointment of the 5 members in late Jan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istically part of the PPB but responsible to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responsibility to review technical specifications and capability criteria and to issue appro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prov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types of approv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echnical spec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capability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grouping of medical items into 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use of MEAT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additional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considerations on framework agreements are in the pip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proval 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details of the approvals procedure are prescribed in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of experts is established to assist the PP Coun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of the approvals are also prescri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to appeal against the decision of the Coun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42960" y="1628280"/>
            <a:ext cx="70358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national e-procurement system in the region – started up in 200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-based, simple and user-friend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ized system – one place for every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- procurement transaction in Macedon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s e-notices, e-tendering, e-awarding and e-a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no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 is used for publication of contract notices and contract award notices (as well as several other types of additional notic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P sends automated alerts to registered economic operators for new contract notices in the corresponding area of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18.653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act notices and over 16.000 contract award notices were published on ESPP in 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-tendering and e-Awar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8360" y="1700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stem enables procedures to be carried out fully electronically until the contract a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valuation of the bids is conducted automatically and by electronic m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s ar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ing the Profile of Economic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2.500 procedures were conducted fully electronically in 2013, around 15% of th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2:32:31Z</dcterms:created>
  <dc:creator>Esad Mulabegovic</dc:creator>
  <dc:description/>
  <dc:language>en-US</dc:language>
  <cp:lastModifiedBy>BOGUSZ-LOMANZO Aleksandra</cp:lastModifiedBy>
  <dcterms:modified xsi:type="dcterms:W3CDTF">2014-08-21T13:45:56Z</dcterms:modified>
  <cp:revision>59</cp:revision>
  <dc:subject/>
  <dc:title>PowerPoint Presentation</dc:title>
</cp:coreProperties>
</file>