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666B-16F2-4369-BC88-6FBCE28F72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719-6D86-46E8-AF8D-5292ED3027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0D3-0444-4766-869D-627ADF06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2BF-2E6B-4DA9-AA98-70CED1E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B9E-5460-4F37-A459-87D8DC73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9C0-0DBF-4B40-90A4-1FF69877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2C2-3EC4-4F4B-B204-8AD4A3CD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1C1-F168-4AF2-ACDF-3E9BA94A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60F-A88F-4FD6-BA47-EAC66C3C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508-F6E6-4B7A-9773-C184A3A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5B3-8F7A-4B52-B5FD-A30DABF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D5A-3524-4155-B2A0-420C4870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D39-49E8-4948-8EBB-3C6B1FC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C9E-A4AA-441E-9BCB-D45B11D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017-E8CF-4589-9DBD-EA440E7B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2209680"/>
            <a:ext cx="7924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LIC PROCUREMENT REFORMS IN ALBANI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IPA Regional Public Procurement Confere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ptember, 9-10, 2014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lora, Albani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8077320" y="6324480"/>
            <a:ext cx="76176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447-E118-4033-9306-2E2EBF27F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ctivity i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1760" y="2133720"/>
            <a:ext cx="7467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paration of a strategy on the development of public procurement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im of the strategy is to define main goals in further development of the public procurement system and measures required for their achie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paration of some amendments to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the law on public procur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1BA-CC33-4BA5-B13B-BDCEDAAA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ank you!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Reida Kash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irect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egal. Monitoring and Publication Direc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PPA, Albania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ida.Kashta@app.gov.al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11C-3D52-4F4F-870F-6EA5C6A0C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1760" y="21337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 Procurement Law No 9643/2006, as a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cessions and PPP Law No 125/2013, as a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B5F-8231-4BB3-8728-696D5810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stit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213336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 Procurement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 Procurement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A69-E734-49B8-AB1D-D14AD40E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forcement of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22856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nce the monitoring competence was added to PPA legal duties, the latter has prepared 3-month Monitoring Plans for public procurement procedures, carried out by different contracting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monitoring process aims the identification of contracting authorities’ shortages, in respecting the legal and sub-legal requirements when conducting the procedures, and provision of the respective interpretation for the right implementation of legi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D44-0F46-4D58-A99C-9B4B2E277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forcement of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PA analyzes the recommendations for administrative measures submitted by the Public Procurement Commission, the Supreme State Audit and Internal Audits of other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case of noticing any public procurement law and regulations infringement in public procurement procedures, by contracting authorities, PPA assigns the respective administrativ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074C-A4FC-489F-8B67-69825C1E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PA structure/interna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5BF2-8E00-456A-BCE9-DAE398D7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6" name="Content Placeholder 4" descr="varianti%20final[1]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ronic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205704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mall value procurement procedures (approx Eur 3,000) conducted electron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uring 2013, were conducted in the system 17 329 small value proced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the period January – July 2014, were published 22 334 electronic small value proced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PA issued the relevant legal and technical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9B9-59AD-4DD0-B07B-FF08F81D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ronic concessions/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cil of Ministers Decision No 130 of 12.3.2014, “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n the electronic conduct of competitive procedures for the award of concessions/public private partnership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24B-5F99-4CA5-AF8F-1721AC19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848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pacity building of procurement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e framework of enforcement of public procurement legislation and on purpose its well-implementation, several training activities with representatives of contracting authorities, were organized by PPA in collaboration with respectively, SIGMA and the Albanian School of Public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B12-BBF5-4D28-AA14-3914AB12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0:59:52Z</dcterms:created>
  <dc:creator>ademiraj</dc:creator>
  <dc:description/>
  <dc:language>en-US</dc:language>
  <cp:lastModifiedBy>BOGUSZ-LOMANZO Aleksandra</cp:lastModifiedBy>
  <dcterms:modified xsi:type="dcterms:W3CDTF">2014-09-02T13:03:54Z</dcterms:modified>
  <cp:revision>521</cp:revision>
  <dc:subject/>
  <dc:title>Slide 1</dc:title>
</cp:coreProperties>
</file>